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5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26.jpeg" ContentType="image/jpeg"/>
  <Override PartName="/ppt/media/image18.wmf" ContentType="image/x-wmf"/>
  <Override PartName="/ppt/media/image36.jpeg" ContentType="image/jpeg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3.wmf" ContentType="image/x-wmf"/>
  <Override PartName="/ppt/media/image9.jpeg" ContentType="image/jpeg"/>
  <Override PartName="/ppt/media/image13.wmf" ContentType="image/x-wmf"/>
  <Override PartName="/ppt/media/image10.jpeg" ContentType="image/jpeg"/>
  <Override PartName="/ppt/media/image35.jpeg" ContentType="image/jpeg"/>
  <Override PartName="/ppt/media/image5.png" ContentType="image/png"/>
  <Override PartName="/ppt/media/image29.jpeg" ContentType="image/jpeg"/>
  <Override PartName="/ppt/media/image34.jpeg" ContentType="image/jpeg"/>
  <Override PartName="/ppt/media/image40.wmf" ContentType="image/x-wmf"/>
  <Override PartName="/ppt/media/image38.wmf" ContentType="image/x-wmf"/>
  <Override PartName="/ppt/media/image32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30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19.jpeg" ContentType="image/jpeg"/>
  <Override PartName="/ppt/media/image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175-7210-409B-AB4E-10662495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BBD-572B-4EB3-B021-4753D19E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3D7-9703-405D-9DDF-3C8153B0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104-72CA-4BFB-B66D-930BCCF5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D1B-51F7-4B06-BCC9-96DF5069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C5A-4DB9-49BF-9B56-FF27ADEA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6FC-A82F-4F91-9561-652C2689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D54-936D-416D-A3AB-7AD1C7C7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491-C1BB-40FA-8521-78533725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85E-503E-4C42-B996-C73E4434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C5E-70EA-47E3-BD84-2363F29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DF3-E6A4-4E01-BAF3-C389643C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B1FF-E07C-4AAB-884D-49B5FE416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7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16.xml"/><Relationship Id="rId6" Type="http://schemas.openxmlformats.org/officeDocument/2006/relationships/slide" Target="slide19.xml"/><Relationship Id="rId7" Type="http://schemas.openxmlformats.org/officeDocument/2006/relationships/image" Target="../media/image3.png"/><Relationship Id="rId8" Type="http://schemas.openxmlformats.org/officeDocument/2006/relationships/slide" Target="slide20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1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1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1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" Target="slide1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image" Target="../media/image3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slide2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" Target="slide2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image" Target="../media/image3.png"/><Relationship Id="rId6" Type="http://schemas.openxmlformats.org/officeDocument/2006/relationships/slide" Target="slide32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26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slide26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s.usda.gov/info/agexporter/2000/May/transl6.jpg" TargetMode="External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3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6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6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" Target="slide3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lovson.com/gifs/toothpaste-2.jpg" TargetMode="External"/><Relationship Id="rId2" Type="http://schemas.openxmlformats.org/officeDocument/2006/relationships/image" Target="../media/image29.jpeg"/><Relationship Id="rId3" Type="http://schemas.openxmlformats.org/officeDocument/2006/relationships/slide" Target="slide3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" Target="slide3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" Target="slide3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3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3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3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3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7.xml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image" Target="../media/image3.png"/><Relationship Id="rId6" Type="http://schemas.openxmlformats.org/officeDocument/2006/relationships/slide" Target="slide48.xml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" Target="slide4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" Target="slide4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" Target="slide4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" Target="slide4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" Target="slide4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image" Target="../media/image5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image" Target="../media/image5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" Target="slide4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" Target="slide4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" Target="slide4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" Target="slide4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" Target="slide1.xm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Tahoma"/>
              </a:rPr>
              <a:t>Supermarket Family Feu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2489400" cy="3002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Grap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581280" cy="2147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roccol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27440" y="3124080"/>
            <a:ext cx="3489120" cy="2959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something you can find in the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dairy sec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f the super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40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il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727440" y="2914560"/>
            <a:ext cx="1689120" cy="3409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hee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89280" y="3429000"/>
            <a:ext cx="3564000" cy="2646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2480" y="0"/>
            <a:ext cx="563904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Egg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486400" cy="2403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95360" y="380880"/>
            <a:ext cx="81532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ream Chee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124080" y="32004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Yogur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87560" y="3038400"/>
            <a:ext cx="3360960" cy="3173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ut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17720" y="3429000"/>
            <a:ext cx="3506760" cy="257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something you can buy in the 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del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 the super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666880" y="1981080"/>
          <a:ext cx="3886200" cy="41148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40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ak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581640" cy="277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20040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resh Brea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51120" y="3048120"/>
            <a:ext cx="3641760" cy="3427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66960" y="45720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52720" y="3429000"/>
            <a:ext cx="3237120" cy="275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something you find in the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frozen foods se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supermar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388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40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78080" y="2743200"/>
            <a:ext cx="2841840" cy="37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0"/>
            <a:ext cx="70866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rozen Pizz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3733920"/>
            <a:ext cx="4608720" cy="2117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V Dinner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33560" y="3809880"/>
            <a:ext cx="3475080" cy="1886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something you find in the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roduce sec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f the super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4388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6400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40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304920"/>
            <a:ext cx="8001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rozen Vegetab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47880" y="2971800"/>
            <a:ext cx="5448240" cy="335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sh Stic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48080" y="3429000"/>
            <a:ext cx="4047840" cy="2544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something you find in th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health and beauty aids 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super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2139840"/>
          <a:ext cx="7772400" cy="3651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40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hampo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494080" y="3352680"/>
            <a:ext cx="4155840" cy="2818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oothpast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00400" y="3429000"/>
            <a:ext cx="4543200" cy="2462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edic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5400" y="2971800"/>
            <a:ext cx="3011400" cy="3011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eodora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68440" y="3276720"/>
            <a:ext cx="4337280" cy="2825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68480" y="2819520"/>
            <a:ext cx="5207040" cy="357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o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673360" y="3200400"/>
            <a:ext cx="3797280" cy="3219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0"/>
            <a:ext cx="624816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p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5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19320" y="2971800"/>
            <a:ext cx="3000600" cy="33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outhwas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65440" y="3048120"/>
            <a:ext cx="2011320" cy="3349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Vitami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832120" y="2895480"/>
            <a:ext cx="3479760" cy="3479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19920" y="6389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something you find in the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seafood sec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f the super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71840" y="60958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1406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333600" y="3200400"/>
            <a:ext cx="2476800" cy="3200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hrim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160800" y="2819520"/>
            <a:ext cx="2820960" cy="3460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obs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11560" y="3200400"/>
            <a:ext cx="4520880" cy="3170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rab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106800" y="3429000"/>
            <a:ext cx="2928960" cy="2367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Supermarket Family Feud Round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358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something you find in the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meat departm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supermar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85800" y="1981080"/>
          <a:ext cx="7772400" cy="3651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726960" y="64008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Back to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40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Orang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79520" y="3124080"/>
            <a:ext cx="4583160" cy="3038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teak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63680" y="3429000"/>
            <a:ext cx="6416640" cy="2278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0"/>
            <a:ext cx="82296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Hamburger Me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295800" y="3200400"/>
            <a:ext cx="2495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Hot Dog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666880" y="3124080"/>
            <a:ext cx="39625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hick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424400" cy="3365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urke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374920" y="2971800"/>
            <a:ext cx="4394160" cy="3468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Ha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271600" y="2971800"/>
            <a:ext cx="4599000" cy="3168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ac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5027760" cy="2702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00120" y="2590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The En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589200" cy="3463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0880" y="426960"/>
            <a:ext cx="2489400" cy="3002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80880" y="5867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6324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Back to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ettu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5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08440" y="3124080"/>
            <a:ext cx="3327120" cy="289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anan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4572000" cy="35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otato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5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76440" y="3397320"/>
            <a:ext cx="4191120" cy="277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omato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47840" y="3276720"/>
            <a:ext cx="4648320" cy="3052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7:37:52Z</dcterms:created>
  <dc:creator>DSES</dc:creator>
  <dc:description/>
  <dc:language>en-US</dc:language>
  <cp:lastModifiedBy> </cp:lastModifiedBy>
  <dcterms:modified xsi:type="dcterms:W3CDTF">2004-07-29T15:54:54Z</dcterms:modified>
  <cp:revision>31</cp:revision>
  <dc:subject/>
  <dc:title>PowerPoint Presentation</dc:title>
</cp:coreProperties>
</file>