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5AD-ABBE-4DC1-8728-8E900DA6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500-1F29-470F-8B48-83A25B8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A89-B3E1-49C4-A8E0-FCFB458A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702-A6A5-4AB3-BD22-FC9E1976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BE4-FDCD-4172-AEBF-E5021671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3A6-62F1-4799-B652-280E2755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D38-4BC9-44E7-B142-E9EC9C1C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154-74C4-4E0C-A406-251F6CAF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45A-8421-42E2-A97E-02CB7858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DD5-C90D-45F8-934C-26F0D66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DE3-DCF2-441C-961B-290F510B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2C9-824E-48F4-8A96-66ACC66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1B97-0623-4F54-99D0-0112F0B8C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slide" Target="slide14.xml"/><Relationship Id="rId5" Type="http://schemas.openxmlformats.org/officeDocument/2006/relationships/slide" Target="slide18.xml"/><Relationship Id="rId6" Type="http://schemas.openxmlformats.org/officeDocument/2006/relationships/slide" Target="slide3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15.xml"/><Relationship Id="rId10" Type="http://schemas.openxmlformats.org/officeDocument/2006/relationships/slide" Target="slide19.xml"/><Relationship Id="rId11" Type="http://schemas.openxmlformats.org/officeDocument/2006/relationships/slide" Target="slide4.xml"/><Relationship Id="rId12" Type="http://schemas.openxmlformats.org/officeDocument/2006/relationships/slide" Target="slide8.xml"/><Relationship Id="rId13" Type="http://schemas.openxmlformats.org/officeDocument/2006/relationships/slide" Target="slide12.xml"/><Relationship Id="rId14" Type="http://schemas.openxmlformats.org/officeDocument/2006/relationships/slide" Target="slide16.xml"/><Relationship Id="rId15" Type="http://schemas.openxmlformats.org/officeDocument/2006/relationships/slide" Target="slide20.xml"/><Relationship Id="rId16" Type="http://schemas.openxmlformats.org/officeDocument/2006/relationships/slide" Target="slide5.xml"/><Relationship Id="rId17" Type="http://schemas.openxmlformats.org/officeDocument/2006/relationships/slide" Target="slide9.xml"/><Relationship Id="rId18" Type="http://schemas.openxmlformats.org/officeDocument/2006/relationships/slide" Target="slide13.xml"/><Relationship Id="rId19" Type="http://schemas.openxmlformats.org/officeDocument/2006/relationships/slide" Target="slide17.xml"/><Relationship Id="rId20" Type="http://schemas.openxmlformats.org/officeDocument/2006/relationships/slide" Target="slide21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sons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371600"/>
          <a:ext cx="7772400" cy="5143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rts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rt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ativ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s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5120" y="6858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me the seas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2227320"/>
            <a:ext cx="4648320" cy="3049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c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5120" y="6858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me the seas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459520"/>
            <a:ext cx="3429000" cy="1937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68580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me the seas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413440"/>
            <a:ext cx="3429000" cy="1937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68580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me the seas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2431080"/>
            <a:ext cx="3581280" cy="1937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5120" y="76212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ch month is cold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000240"/>
            <a:ext cx="2971800" cy="2287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ctober or Janu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09680" y="8064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ch season is hot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971800"/>
            <a:ext cx="2514600" cy="2287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mmer or sp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33720" y="80640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ch month is cool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2819520"/>
            <a:ext cx="3504960" cy="3049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09680" y="8064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ch season is warm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2833920"/>
            <a:ext cx="2819520" cy="3049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40630" r="0" b="0"/>
          <a:stretch/>
        </p:blipFill>
        <p:spPr>
          <a:xfrm>
            <a:off x="2514600" y="2133720"/>
            <a:ext cx="4038480" cy="363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52480" y="3808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the sea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791320" cy="3782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52480" y="3808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the sea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5943600" cy="396216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62736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00200" y="3808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the sea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1762200"/>
            <a:ext cx="5943600" cy="3952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3880" y="38088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the sea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62360" y="838080"/>
            <a:ext cx="338616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1563840"/>
            <a:ext cx="5410080" cy="3579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1279440"/>
            <a:ext cx="6400800" cy="42973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43692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49760" cy="56390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28880" y="838080"/>
            <a:ext cx="3419640" cy="5181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1298520"/>
            <a:ext cx="6400800" cy="42609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380880" y="586728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16:45:06Z</dcterms:created>
  <dc:creator>dses</dc:creator>
  <dc:description/>
  <dc:language>en-US</dc:language>
  <cp:lastModifiedBy> </cp:lastModifiedBy>
  <dcterms:modified xsi:type="dcterms:W3CDTF">2004-07-29T15:52:46Z</dcterms:modified>
  <cp:revision>10</cp:revision>
  <dc:subject/>
  <dc:title>Seasons Jeopardy</dc:title>
</cp:coreProperties>
</file>