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F86-450A-4C3E-A8D5-33478C4A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1704-1A5C-4CBC-AAA2-ED332F1B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ED5-81E0-44C5-8F6E-535E0FCB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DD30-8B3D-4C1E-B31C-2CD95DCF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693-0A0F-475B-981D-DE5CDE0F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910-6AF9-44A3-B4F2-BFC9727D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710-40AB-4F5A-B877-3505422D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8BD-C67B-4869-A031-DB4C0D67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C09-F52F-41C5-B144-633E10A7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9B8-AF6B-4E2A-A6E0-E557BD03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87E-E28F-45DB-BA1D-03B6EEF6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12A7-5070-46DC-AD03-27E41B26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F28D-0D25-4902-BC7D-D59938726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62560" cy="485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3808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irst Thanksgiv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3276360" cy="31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3276720" cy="2492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46483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fter the first harvest, they made a big din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181480" cy="4579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50292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invited the Indians to eat with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51814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was the first Thanksgiv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5943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962160" cy="3516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267080" y="685800"/>
            <a:ext cx="4724640" cy="342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44197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we celebrate Thanksgiving every Novemb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52960" y="304920"/>
            <a:ext cx="3189240" cy="510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518148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ilgrims were unhappy in Eng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715000" cy="4460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52578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wanted religious freedom, but their king said 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191120" cy="418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 in 1620 they decided to go to Amer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162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553080" y="2362320"/>
            <a:ext cx="1549440" cy="1770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1600" y="30492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04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traveled to America on a large shi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558720"/>
            <a:ext cx="6096240" cy="465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5334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was called the Mayflow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477120" cy="5092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320" y="5791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yflower landed at Plymouth, Massachusetts, in w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4572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fe in Plymouth was difficult for the pilgrims.  Many died from hunger and the cold weath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71800" y="4267080"/>
            <a:ext cx="25909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672080" cy="5035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43000" y="51055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her pilgrims met Indians who helped them plant cor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4T18:02:14Z</dcterms:created>
  <dc:creator>DSES</dc:creator>
  <dc:description/>
  <dc:language>en-US</dc:language>
  <cp:lastModifiedBy> </cp:lastModifiedBy>
  <dcterms:modified xsi:type="dcterms:W3CDTF">2004-06-09T14:44:03Z</dcterms:modified>
  <cp:revision>9</cp:revision>
  <dc:subject/>
  <dc:title>PowerPoint Presentation</dc:title>
</cp:coreProperties>
</file>