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2.wmf" ContentType="image/x-wmf"/>
  <Override PartName="/ppt/media/type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2F1-1CC4-40F5-B422-E19C4E13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205-B078-451F-853E-F3571396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E93-F8BB-455B-B599-88C7E817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112-C642-4EC5-B43C-ACFB9632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33D4-5937-405D-B89E-2B1DCEEA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67E-FFE0-4C09-B2D7-BDB6D1B3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480-812B-4209-8DF6-DD915896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EE7-FC87-469E-B345-90A02A85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3DA-FED1-4F1A-A0A6-F263841A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8AF-3B2E-4C41-8B9B-1F762868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F30-2371-4BF9-A51B-7D1B77FF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3801-71F2-4566-A97A-B7BBB871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AA02-65F1-4560-8ECA-0C471A78C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0168426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19128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3049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sgiving Vocabul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912960"/>
            <a:ext cx="5639040" cy="4116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52480" y="513540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eas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75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2480" y="654120"/>
            <a:ext cx="5643720" cy="4146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52480" y="513540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urke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75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56272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52480" y="518148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pi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601992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0200" y="51354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75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523800"/>
            <a:ext cx="5333760" cy="473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5120" y="51354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amil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75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517680"/>
            <a:ext cx="647712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11760" y="2536920"/>
            <a:ext cx="131904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457440" cy="44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5226120"/>
            <a:ext cx="647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ilgrim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029200" cy="4075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51814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ai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824040"/>
            <a:ext cx="4672080" cy="412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51354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dia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7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747720"/>
            <a:ext cx="4800600" cy="4281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57400" y="51814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or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4038480" cy="5105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14600" y="51354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al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75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620640"/>
            <a:ext cx="6019560" cy="4408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51354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arves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019920" cy="464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71600" y="51354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pumpki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5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52480" y="684360"/>
            <a:ext cx="5562720" cy="449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6520" y="513540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ook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15:15:51Z</dcterms:created>
  <dc:creator>DSES</dc:creator>
  <dc:description/>
  <dc:language>en-US</dc:language>
  <cp:lastModifiedBy> </cp:lastModifiedBy>
  <dcterms:modified xsi:type="dcterms:W3CDTF">2004-06-09T15:24:13Z</dcterms:modified>
  <cp:revision>4</cp:revision>
  <dc:subject/>
  <dc:title>PowerPoint Presentation</dc:title>
</cp:coreProperties>
</file>