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50BD-F519-495C-808A-0835B746B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99A0-C3D6-4D7F-828D-50272991C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D123-0EF1-48F9-83F3-55921738C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C42A-437A-41EC-9DFD-CC4B22BFA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21341-2163-4A57-9903-4CB5EF308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5C113-49ED-40C9-938A-71DDA4C92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37AEE-635F-493A-BF91-02B21CE26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4AE78-63C3-40C1-BF71-4E620D377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5CA0E-CF66-4B37-A3BF-AC668FE81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169FF-FA29-44D4-9BE1-04714F50B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7088E-6857-457C-B552-80F70E5C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677F-F9CD-49CC-894E-39976267E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52C12-5CF7-421A-930A-91906D9D2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FAF3B-E500-44F2-A904-57411D32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4541E-C02C-4B59-B3BD-7BF440798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7DC35-7510-45B1-A077-EC1B02416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8B79D-ADB5-4152-A5A3-ADC8F23D2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B6FE-D5EC-4300-93E6-E46DDAFF4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DAF6-5AA5-437E-B7CD-10C6A5032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2868-0F4E-48BB-BA5B-188986942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EEBD-C1E0-465A-B491-2138E8FC5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F852-CB47-4B51-8079-929ED90D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EE60-733A-4173-9BAA-9CC702DD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F4E3-7D08-4482-BBE0-04836CC8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558BB-5157-4847-898E-313C7FA4B14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E6112-C3FB-4E86-96F7-F3C7B0363B9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9.xml"/><Relationship Id="rId3" Type="http://schemas.openxmlformats.org/officeDocument/2006/relationships/slide" Target="slide4.xml"/><Relationship Id="rId4" Type="http://schemas.openxmlformats.org/officeDocument/2006/relationships/slide" Target="slide10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304920"/>
            <a:ext cx="6781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The Declaration of Independence Jeopardy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533520" y="4267080"/>
          <a:ext cx="1858680" cy="201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267080"/>
                    <a:ext cx="1858680" cy="20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6873840" y="4343400"/>
          <a:ext cx="1736640" cy="1920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73840" y="4343400"/>
                    <a:ext cx="1736640" cy="192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828800" y="1905120"/>
            <a:ext cx="5486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hat did Thomas Jefferson write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>
            <a:hlinkClick r:id="rId1" action="ppaction://hlinksldjump"/>
          </p:cNvPr>
          <p:cNvSpPr/>
          <p:nvPr/>
        </p:nvSpPr>
        <p:spPr>
          <a:xfrm>
            <a:off x="609480" y="5791320"/>
            <a:ext cx="914400" cy="4572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82002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752480" y="1876320"/>
            <a:ext cx="5639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On what coin does Thomas Jefferson’s picture appear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>
            <a:hlinkClick r:id="rId1" action="ppaction://hlinksldjump"/>
          </p:cNvPr>
          <p:cNvSpPr/>
          <p:nvPr/>
        </p:nvSpPr>
        <p:spPr>
          <a:xfrm>
            <a:off x="609480" y="5791320"/>
            <a:ext cx="914400" cy="4572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82002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143000" y="1876320"/>
            <a:ext cx="685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On what paper currency (bill) does Thomas Jefferson’s picture appear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609480" y="5791320"/>
            <a:ext cx="914400" cy="4572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82002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254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143000" y="2549520"/>
            <a:ext cx="6858000" cy="1738440"/>
            <a:chOff x="1143000" y="2549520"/>
            <a:chExt cx="6858000" cy="1738440"/>
          </a:xfrm>
        </p:grpSpPr>
        <p:sp>
          <p:nvSpPr>
            <p:cNvPr id="137" name=""/>
            <p:cNvSpPr/>
            <p:nvPr/>
          </p:nvSpPr>
          <p:spPr>
            <a:xfrm>
              <a:off x="1143000" y="25495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143000" y="2549520"/>
              <a:ext cx="6858000" cy="17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US" sz="108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1143000" y="2835360"/>
            <a:ext cx="6858000" cy="1189080"/>
            <a:chOff x="1143000" y="2835360"/>
            <a:chExt cx="6858000" cy="1189080"/>
          </a:xfrm>
        </p:grpSpPr>
        <p:sp>
          <p:nvSpPr>
            <p:cNvPr id="140" name=""/>
            <p:cNvSpPr/>
            <p:nvPr/>
          </p:nvSpPr>
          <p:spPr>
            <a:xfrm>
              <a:off x="1143000" y="2835360"/>
              <a:ext cx="685800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143000" y="2835360"/>
              <a:ext cx="685800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US" sz="72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                           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42" name="" descr="Thomas Jefferson Memorial"/>
          <p:cNvPicPr/>
          <p:nvPr/>
        </p:nvPicPr>
        <p:blipFill>
          <a:blip r:embed="rId1"/>
          <a:stretch/>
        </p:blipFill>
        <p:spPr>
          <a:xfrm>
            <a:off x="1158840" y="3657600"/>
            <a:ext cx="6765840" cy="18050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447920" y="6858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3880" y="1523880"/>
            <a:ext cx="6019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hat is this a picture of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>
            <a:hlinkClick r:id="rId2" action="ppaction://hlinksldjump"/>
          </p:cNvPr>
          <p:cNvSpPr/>
          <p:nvPr/>
        </p:nvSpPr>
        <p:spPr>
          <a:xfrm>
            <a:off x="609480" y="5791320"/>
            <a:ext cx="914400" cy="4572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82002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447920" y="129528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hat is this a picture of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666880" y="3200400"/>
            <a:ext cx="3733920" cy="3243240"/>
          </a:xfrm>
          <a:prstGeom prst="rect">
            <a:avLst/>
          </a:prstGeom>
          <a:ln w="0">
            <a:noFill/>
          </a:ln>
        </p:spPr>
      </p:pic>
      <p:sp>
        <p:nvSpPr>
          <p:cNvPr id="148" name="">
            <a:hlinkClick r:id="rId2" action="ppaction://hlinksldjump"/>
          </p:cNvPr>
          <p:cNvSpPr/>
          <p:nvPr/>
        </p:nvSpPr>
        <p:spPr>
          <a:xfrm>
            <a:off x="609480" y="5791320"/>
            <a:ext cx="914400" cy="4572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82002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905120" y="1860480"/>
            <a:ext cx="525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hat is the simple past tense form of the verb “write”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>
            <a:hlinkClick r:id="rId1" action="ppaction://hlinksldjump"/>
          </p:cNvPr>
          <p:cNvSpPr/>
          <p:nvPr/>
        </p:nvSpPr>
        <p:spPr>
          <a:xfrm>
            <a:off x="609480" y="5791320"/>
            <a:ext cx="914400" cy="4572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82002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1876320"/>
            <a:ext cx="5486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hat is the simple past tense form of the verb “say”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>
            <a:hlinkClick r:id="rId1" action="ppaction://hlinksldjump"/>
          </p:cNvPr>
          <p:cNvSpPr/>
          <p:nvPr/>
        </p:nvSpPr>
        <p:spPr>
          <a:xfrm>
            <a:off x="609480" y="5791320"/>
            <a:ext cx="914400" cy="4572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82002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905120" y="1860480"/>
            <a:ext cx="5333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hat is the simple past tense form of the verb “go”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>
            <a:hlinkClick r:id="rId1" action="ppaction://hlinksldjump"/>
          </p:cNvPr>
          <p:cNvSpPr/>
          <p:nvPr/>
        </p:nvSpPr>
        <p:spPr>
          <a:xfrm>
            <a:off x="609480" y="5791320"/>
            <a:ext cx="914400" cy="4572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82002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286000" y="1143000"/>
            <a:ext cx="4419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905120" y="1876320"/>
            <a:ext cx="5410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hat is the simple past tense form of the verb “send”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>
            <a:hlinkClick r:id="rId1" action="ppaction://hlinksldjump"/>
          </p:cNvPr>
          <p:cNvSpPr/>
          <p:nvPr/>
        </p:nvSpPr>
        <p:spPr>
          <a:xfrm>
            <a:off x="609480" y="5791320"/>
            <a:ext cx="914400" cy="4572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82002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905120" y="1876320"/>
            <a:ext cx="525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hat is the simple past tense form of the verb “tell”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>
            <a:hlinkClick r:id="rId1" action="ppaction://hlinksldjump"/>
          </p:cNvPr>
          <p:cNvSpPr/>
          <p:nvPr/>
        </p:nvSpPr>
        <p:spPr>
          <a:xfrm>
            <a:off x="609480" y="5791320"/>
            <a:ext cx="914400" cy="4572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82002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Comic Sans MS"/>
              </a:rPr>
              <a:t>The Declaration of Independence Jeopardy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762120" y="1846440"/>
          <a:ext cx="7772400" cy="478296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eclaration of Independen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homas Jeffers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rregular Verb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cc"/>
                          </a:solidFill>
                          <a:uFillTx/>
                          <a:latin typeface="Comic Sans MS"/>
                          <a:hlinkClick r:id="rId1" action="ppaction://hlinksldjump"/>
                        </a:rPr>
                        <a:t>1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cc"/>
                          </a:solidFill>
                          <a:uFillTx/>
                          <a:latin typeface="Comic Sans MS"/>
                          <a:hlinkClick r:id="rId2" action="ppaction://hlinksldjump"/>
                        </a:rPr>
                        <a:t>1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cc"/>
                          </a:solidFill>
                          <a:uFillTx/>
                          <a:latin typeface="Comic Sans MS"/>
                          <a:hlinkClick r:id="rId3" action="ppaction://hlinksldjump"/>
                        </a:rPr>
                        <a:t>2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cc"/>
                          </a:solidFill>
                          <a:uFillTx/>
                          <a:latin typeface="Comic Sans MS"/>
                          <a:hlinkClick r:id="rId4" action="ppaction://hlinksldjump"/>
                        </a:rPr>
                        <a:t>2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cc"/>
                          </a:solidFill>
                          <a:uFillTx/>
                          <a:latin typeface="Comic Sans MS"/>
                          <a:hlinkClick r:id="rId5" action="ppaction://hlinksldjump"/>
                        </a:rPr>
                        <a:t>3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cc"/>
                          </a:solidFill>
                          <a:uFillTx/>
                          <a:latin typeface="Comic Sans MS"/>
                          <a:hlinkClick r:id="rId6" action="ppaction://hlinksldjump"/>
                        </a:rPr>
                        <a:t>4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cc"/>
                          </a:solidFill>
                          <a:uFillTx/>
                          <a:latin typeface="Comic Sans MS"/>
                          <a:hlinkClick r:id="rId7" action="ppaction://hlinksldjump"/>
                        </a:rPr>
                        <a:t>5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cc"/>
                          </a:solidFill>
                          <a:uFillTx/>
                          <a:latin typeface="Comic Sans MS"/>
                          <a:hlinkClick r:id="rId8" action="ppaction://hlinksldjump"/>
                        </a:rPr>
                        <a:t>6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676520" y="1905120"/>
            <a:ext cx="579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hat is the simple past tense form of the verb “fight”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>
            <a:hlinkClick r:id="rId1" action="ppaction://hlinksldjump"/>
          </p:cNvPr>
          <p:cNvSpPr/>
          <p:nvPr/>
        </p:nvSpPr>
        <p:spPr>
          <a:xfrm>
            <a:off x="609480" y="5791320"/>
            <a:ext cx="914400" cy="4572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82002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600200" y="1876320"/>
            <a:ext cx="6019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hat country did the colonists want their independence from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1" action="ppaction://hlinksldjump"/>
          </p:cNvPr>
          <p:cNvSpPr/>
          <p:nvPr/>
        </p:nvSpPr>
        <p:spPr>
          <a:xfrm>
            <a:off x="609480" y="5791320"/>
            <a:ext cx="914400" cy="4572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82002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523880" y="1876320"/>
            <a:ext cx="6019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hat war did the 13 American Colonies fight against England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>
            <a:hlinkClick r:id="rId1" action="ppaction://hlinksldjump"/>
          </p:cNvPr>
          <p:cNvSpPr/>
          <p:nvPr/>
        </p:nvSpPr>
        <p:spPr>
          <a:xfrm>
            <a:off x="609480" y="5791320"/>
            <a:ext cx="914400" cy="4572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82002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523880" y="1876320"/>
            <a:ext cx="6019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ho was the main writer of the Declaration of  Independence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>
            <a:hlinkClick r:id="rId1" action="ppaction://hlinksldjump"/>
          </p:cNvPr>
          <p:cNvSpPr/>
          <p:nvPr/>
        </p:nvSpPr>
        <p:spPr>
          <a:xfrm>
            <a:off x="609480" y="5791320"/>
            <a:ext cx="914400" cy="4572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82002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600200" y="1876320"/>
            <a:ext cx="6019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hat is the basic belief of the Declaration of Independence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>
            <a:hlinkClick r:id="rId1" action="ppaction://hlinksldjump"/>
          </p:cNvPr>
          <p:cNvSpPr/>
          <p:nvPr/>
        </p:nvSpPr>
        <p:spPr>
          <a:xfrm>
            <a:off x="609480" y="5791320"/>
            <a:ext cx="914400" cy="4572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82002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3880" y="1905120"/>
            <a:ext cx="6019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Name one unalienable right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>
            <a:hlinkClick r:id="rId1" action="ppaction://hlinksldjump"/>
          </p:cNvPr>
          <p:cNvSpPr/>
          <p:nvPr/>
        </p:nvSpPr>
        <p:spPr>
          <a:xfrm>
            <a:off x="609480" y="5791320"/>
            <a:ext cx="914400" cy="4572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82002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09480" y="1908000"/>
            <a:ext cx="7848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ccording to the Declaration of Independence, who does government get its powers from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609480" y="5791320"/>
            <a:ext cx="914400" cy="4572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82002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447920" y="1876320"/>
            <a:ext cx="617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omas Jefferson was the _______ president of the United States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>
            <a:hlinkClick r:id="rId1" action="ppaction://hlinksldjump"/>
          </p:cNvPr>
          <p:cNvSpPr/>
          <p:nvPr/>
        </p:nvSpPr>
        <p:spPr>
          <a:xfrm>
            <a:off x="609480" y="5791320"/>
            <a:ext cx="914400" cy="4572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82002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2T14:57:52Z</dcterms:created>
  <dc:creator>Jodie Isenhour</dc:creator>
  <dc:description/>
  <dc:language>en-US</dc:language>
  <cp:lastModifiedBy> </cp:lastModifiedBy>
  <dcterms:modified xsi:type="dcterms:W3CDTF">2004-07-29T15:50:09Z</dcterms:modified>
  <cp:revision>8</cp:revision>
  <dc:subject/>
  <dc:title>PowerPoint Presentation</dc:title>
</cp:coreProperties>
</file>