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9A5-3DFD-4E23-95B7-5F2A2ED7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4C4-3482-4EDF-917D-ECDFB9FD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F4F-5196-4191-A8F8-9C2C76E4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DB2-576A-4BC3-9E73-27A74CAB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16C-BE6A-4DEA-9664-A004B029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0A28-5D72-4A3D-905F-996C8BD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9A50-A8C7-40AF-8F39-43828A3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E629-1152-4EFD-A1A2-3A0AC27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7CB6-4861-46FE-A946-EA50973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99B1-5F02-43C5-90E8-F2F9CCA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076-5C53-494D-B9AD-071CE033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125-27FC-466D-A991-40B0527E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1FAD-5F3A-4517-BE80-3C445CE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81DC-289E-4912-BB7B-564A78C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ADD1-7209-498F-B684-8BBF2E0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63AF-E741-4247-85E4-1DE67F0A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502E-1339-477B-B0DD-8CF85333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03F-5B47-45E4-BC6F-EC9791EA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461-45AB-4CBE-BA87-21740F6C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EED-30DD-4842-8767-965591E3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A7B-BE9F-4399-B73B-D6D70C1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4CE-CA04-41AD-A019-706B119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595-AEBE-4674-87D8-1C6BC97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7B6-8D8F-4740-B123-1FE30E9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CE9-E8E6-4F51-94F7-C0D993BFDA5E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6FA-BEC4-416C-A728-1D1617483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1143000"/>
            <a:ext cx="5334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Arial"/>
              </a:rPr>
              <a:t>Use an Internet Browser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2590920"/>
            <a:ext cx="4800600" cy="173988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e’re back!  Now, let’s click on another hyperlink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90560" y="4343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605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95480" y="2666880"/>
            <a:ext cx="3657600" cy="2288520"/>
          </a:xfrm>
          <a:prstGeom prst="rect">
            <a:avLst/>
          </a:prstGeom>
          <a:solidFill>
            <a:srgbClr val="cc66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Forward button takes you to the next web page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133720" y="1371240"/>
            <a:ext cx="91440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2096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Now, you try it!</a:t>
            </a:r>
            <a:endParaRPr b="0" lang="en-US" sz="7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8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What is an Internet Browser?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3623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t is a computer program that lets you find, view, and send information over the Internet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952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t also lets you access the World Wide Web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6094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The 2 most common Internet Browsers are: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9718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- Internet Explorer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4956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- Netscape Navigator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9880" y="3048120"/>
            <a:ext cx="4419720" cy="11912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is computer uses Internet Explorer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752480" y="2666880"/>
            <a:ext cx="182880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153640" cy="611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3124080"/>
            <a:ext cx="4267080" cy="17398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ouble-click the web browser icon to open the Internet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523880" y="2742840"/>
            <a:ext cx="22860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666720"/>
            <a:ext cx="7848360" cy="582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2743200"/>
            <a:ext cx="3962520" cy="2531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on the Search button when you want to find information on a topic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76560" y="1676160"/>
            <a:ext cx="685800" cy="99036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4343400" cy="119124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ype in your topic and click  “search.”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5120" y="4114800"/>
            <a:ext cx="1295280" cy="11430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5105520"/>
            <a:ext cx="685800" cy="30456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2514600"/>
            <a:ext cx="4267080" cy="2531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se are the search engine’s results.  You can click on one of these hyperlinks to go to a web site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285640" y="2971440"/>
            <a:ext cx="1219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3200400"/>
            <a:ext cx="4495680" cy="155628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se the Back button to go back to the page you were just on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371600" y="1371240"/>
            <a:ext cx="2209680" cy="2133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6:47:02Z</dcterms:created>
  <dc:creator>DSES</dc:creator>
  <dc:description/>
  <dc:language>en-US</dc:language>
  <cp:lastModifiedBy>HRD CCC&amp;TI</cp:lastModifiedBy>
  <dcterms:modified xsi:type="dcterms:W3CDTF">2003-08-06T16:52:19Z</dcterms:modified>
  <cp:revision>15</cp:revision>
  <dc:subject/>
  <dc:title>PowerPoint Presentation</dc:title>
</cp:coreProperties>
</file>