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FB5-E250-47F0-9977-CC2CBB16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B42-BAB9-49E0-B07A-12477824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9EE-68C3-4360-99C0-645F6C34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088-25E8-41A7-9418-A1E68A19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6BE9-51A6-468B-A92B-6D5E0CC3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E6DB-14CE-4213-BA10-7704D2E7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E4F6-BBFE-4A94-B1D9-ABB0C1DE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8E00-E8D0-4C58-88BA-279E27A2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D940-9A11-4589-A296-5FABF1F5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C56A-AB87-4EDB-A09B-5962AEFD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8E9-D5ED-405F-92FF-220290F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7EB-73FB-4381-B204-E7DB24DB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3403-00AD-4EC7-AD8B-D6987FD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B941-C469-4EB9-A02F-C81CBC3C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9540-A61E-45F5-995D-B48EA380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00BE-424D-4703-9893-4C761CDA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CA6F-C61B-4CF0-8516-CB06C468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C1B-A706-4D84-9898-B1475192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00B-C584-49D6-A70D-76282678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D5C-3F3D-446F-88B7-098E10B7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7BC-6F23-462A-8E0B-8D740ABE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9EF-A0EB-44C2-8B0C-325889A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91A-5F01-41BE-97CB-AD1CD22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222-F016-400A-A606-D9544BE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9C0B-DCF9-4426-B827-82D45E9A4BFF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6FF0-978F-4084-BC37-B9057527A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1143000"/>
            <a:ext cx="5334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66"/>
                </a:solidFill>
                <a:latin typeface="Arial"/>
              </a:rPr>
              <a:t>Use an Internet Browser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343080"/>
            <a:ext cx="8001000" cy="6000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76720" y="2590920"/>
            <a:ext cx="4800600" cy="173988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e’re back!  Now, let’s click on another hyperlink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90560" y="4343400"/>
            <a:ext cx="10666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77320" cy="6058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95480" y="2666880"/>
            <a:ext cx="3657600" cy="2288520"/>
          </a:xfrm>
          <a:prstGeom prst="rect">
            <a:avLst/>
          </a:prstGeom>
          <a:solidFill>
            <a:srgbClr val="cc66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Forward button takes you to the next web page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133720" y="1371240"/>
            <a:ext cx="91440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220968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Now, you try it!</a:t>
            </a:r>
            <a:endParaRPr b="0" lang="en-US" sz="7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808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What is an Internet Browser?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23623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t is a computer program that lets you find, view, and send information over the Internet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952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t also lets you access the World Wide Web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6094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The 2 most common Internet Browsers are:</a:t>
            </a:r>
            <a:endParaRPr b="0" lang="en-US" sz="6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29718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- Internet Explorer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4956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- Netscape Navigator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772400" cy="5829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9880" y="3048120"/>
            <a:ext cx="4419720" cy="11912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is computer uses Internet Explorer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752480" y="2666880"/>
            <a:ext cx="182880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153640" cy="611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3124080"/>
            <a:ext cx="4267080" cy="17398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ouble-click the web browser icon to open the Internet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523880" y="2742840"/>
            <a:ext cx="22860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120" y="666720"/>
            <a:ext cx="7848360" cy="5829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2743200"/>
            <a:ext cx="3962520" cy="253116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on the Search button when you want to find information on a topic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876560" y="1676160"/>
            <a:ext cx="685800" cy="99036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4343400" cy="119124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ype in your topic and click  “search.”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05120" y="4114800"/>
            <a:ext cx="1295280" cy="114300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14240" y="5105520"/>
            <a:ext cx="685800" cy="30456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57600" y="2514600"/>
            <a:ext cx="4267080" cy="253116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se are the search engine’s results.  You can click on one of these hyperlinks to go to a web site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285640" y="2971440"/>
            <a:ext cx="1219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3999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33920" y="3200400"/>
            <a:ext cx="4495680" cy="1556280"/>
          </a:xfrm>
          <a:prstGeom prst="rect">
            <a:avLst/>
          </a:prstGeom>
          <a:solidFill>
            <a:srgbClr val="cc66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Use the Back button to go back to the page you were just on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371600" y="1371240"/>
            <a:ext cx="2209680" cy="21337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6:47:02Z</dcterms:created>
  <dc:creator>DSES</dc:creator>
  <dc:description/>
  <dc:language>en-US</dc:language>
  <cp:lastModifiedBy>HRD CCC&amp;TI</cp:lastModifiedBy>
  <dcterms:modified xsi:type="dcterms:W3CDTF">2003-08-06T16:52:19Z</dcterms:modified>
  <cp:revision>15</cp:revision>
  <dc:subject/>
  <dc:title>PowerPoint Presentation</dc:title>
</cp:coreProperties>
</file>