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type.wav" ContentType="audio/x-wav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A538-6F1F-444D-846F-8623837A5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1DD3-35D7-451D-816B-F7F62716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D289-665D-4229-A820-D6A188477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A7D2-B676-4D51-BC2E-44328DBAE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2428A-CACC-42F6-99D9-A482559BD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4C71-6275-4924-8BFF-E3DD64D2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13725-2813-4A6F-B250-A3BD4323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F055-70BA-4CAB-9863-B60F63B2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7384-625C-495D-95C1-32D0FADE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A983-9AEE-43AA-9AD8-73866206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A16D-B5B4-4270-BC24-C8F7E58D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2DA8-63A5-484F-B79E-4E47C500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0D931-8EE7-44F2-9A22-8B2C50AA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1862-18E3-451B-9770-AEE50044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99D7B-B1BE-446E-A1F2-F95B9C37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1FD9-A0C7-4E0D-B275-80BA4A0EC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458D-DA74-4AC9-AD10-2943EB51E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19BE-9B2D-44E2-8215-B566981F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CE69-C0D1-4C78-A7A3-286D3AB7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5C11-AAE5-4490-952E-6AFE5008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805E-9D59-4468-B945-8E45028A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9B22-C680-4A75-AD2D-86548BA3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F98E-FFF7-4ABC-854A-5F5CCB37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FA42-538B-425C-BA4B-B03AE842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84AE-71FB-4B57-BE43-16C021925FD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A34F-9E39-4618-9ADC-B635B972180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05120" y="822240"/>
            <a:ext cx="54864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cc"/>
                </a:solidFill>
                <a:latin typeface="Arial"/>
              </a:rPr>
              <a:t>How to type in a URL Address</a:t>
            </a:r>
            <a:endParaRPr b="0" lang="en-US" sz="8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rcRect l="0" t="0" r="-3119" b="-3118"/>
          <a:stretch/>
        </p:blipFill>
        <p:spPr>
          <a:xfrm>
            <a:off x="533520" y="30492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267080" y="2133720"/>
            <a:ext cx="4572000" cy="4190760"/>
          </a:xfrm>
          <a:prstGeom prst="rect">
            <a:avLst/>
          </a:prstGeom>
          <a:solidFill>
            <a:srgbClr val="6600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2438280"/>
            <a:ext cx="3809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To type in a URL address, highlight the address line by right clicking on it once.  It will make it blu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1447920"/>
            <a:ext cx="6781680" cy="307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0011"/>
                </a:solidFill>
                <a:latin typeface="Arial"/>
              </a:rPr>
              <a:t>http://www.weather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rcRect l="0" t="0" r="-3119" b="-3118"/>
          <a:stretch/>
        </p:blipFill>
        <p:spPr>
          <a:xfrm>
            <a:off x="533520" y="30492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495680" y="2133720"/>
            <a:ext cx="3733920" cy="2895480"/>
          </a:xfrm>
          <a:prstGeom prst="rect">
            <a:avLst/>
          </a:prstGeom>
          <a:solidFill>
            <a:srgbClr val="6600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76920" y="2438280"/>
            <a:ext cx="304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Type the new URL address beginning with “http://”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1434960"/>
            <a:ext cx="6629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0011"/>
                </a:solidFill>
                <a:latin typeface="Arial"/>
              </a:rPr>
              <a:t>http://www.whitehouse.gov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75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rcRect l="0" t="0" r="-3119" b="-3118"/>
          <a:stretch/>
        </p:blipFill>
        <p:spPr>
          <a:xfrm>
            <a:off x="533520" y="30492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495680" y="2133720"/>
            <a:ext cx="3733920" cy="3360600"/>
          </a:xfrm>
          <a:prstGeom prst="rect">
            <a:avLst/>
          </a:prstGeom>
          <a:solidFill>
            <a:srgbClr val="6600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76920" y="2438280"/>
            <a:ext cx="304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on “Go” or hit “Enter” on your keyboard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1434960"/>
            <a:ext cx="6553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0011"/>
                </a:solidFill>
                <a:latin typeface="Arial"/>
              </a:rPr>
              <a:t>http://www.whitehouse.gov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772400" y="1676520"/>
            <a:ext cx="45720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90720" y="22860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Your computer will take you to the new URL addre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28600" y="99072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http://www.whitehouse .gov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38880" y="990720"/>
            <a:ext cx="1600200" cy="1066680"/>
          </a:xfrm>
          <a:prstGeom prst="rect">
            <a:avLst/>
          </a:prstGeom>
          <a:noFill/>
          <a:ln w="540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3429000"/>
            <a:ext cx="716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.gov” tells you that this is a government website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76920" y="2209680"/>
            <a:ext cx="2133360" cy="1067040"/>
          </a:xfrm>
          <a:prstGeom prst="line">
            <a:avLst/>
          </a:prstGeom>
          <a:ln w="54000">
            <a:solidFill>
              <a:srgbClr val="00cc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38080" y="99072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http://www.cccti .edu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342900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.edu” tells you that this is a school website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72200" y="990720"/>
            <a:ext cx="1600200" cy="914400"/>
          </a:xfrm>
          <a:prstGeom prst="rect">
            <a:avLst/>
          </a:prstGeom>
          <a:noFill/>
          <a:ln w="540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267080" y="2057400"/>
            <a:ext cx="1828800" cy="1219320"/>
          </a:xfrm>
          <a:prstGeom prst="line">
            <a:avLst/>
          </a:prstGeom>
          <a:ln w="54000">
            <a:solidFill>
              <a:srgbClr val="00cc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838080" y="99072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http://a4esl .org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19320" y="3048120"/>
            <a:ext cx="685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.org” tells you that this website was created by a non-profit organization or group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62720" y="1066680"/>
            <a:ext cx="1447560" cy="838440"/>
          </a:xfrm>
          <a:prstGeom prst="rect">
            <a:avLst/>
          </a:prstGeom>
          <a:noFill/>
          <a:ln w="540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038480" y="1981080"/>
            <a:ext cx="1447920" cy="990720"/>
          </a:xfrm>
          <a:prstGeom prst="line">
            <a:avLst/>
          </a:prstGeom>
          <a:ln w="54000">
            <a:solidFill>
              <a:srgbClr val="00cc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80880" y="11430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http://www.esl .net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9320" y="3048120"/>
            <a:ext cx="6858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.net” tells you that this website is part of a network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62720" y="1143000"/>
            <a:ext cx="1523880" cy="914400"/>
          </a:xfrm>
          <a:prstGeom prst="rect">
            <a:avLst/>
          </a:prstGeom>
          <a:noFill/>
          <a:ln w="540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885840" y="2133720"/>
            <a:ext cx="1600200" cy="838080"/>
          </a:xfrm>
          <a:prstGeom prst="line">
            <a:avLst/>
          </a:prstGeom>
          <a:ln w="54000">
            <a:solidFill>
              <a:srgbClr val="00cc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19320" y="457200"/>
            <a:ext cx="6705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What is a URL address?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2666880"/>
            <a:ext cx="7010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t is an address that tells the computer to take you to a web pag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81480"/>
            <a:ext cx="716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ll web pages have their own URL addres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09480" y="762120"/>
            <a:ext cx="777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Here is an example of a URL address: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50532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http://www.weather.com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75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09480"/>
            <a:ext cx="6248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his URL address will take you to the weather channel’s website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05120" y="266688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38080" y="38088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Let’s take a closer look at a URL Address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3880" y="243828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http:// www.weather.co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2286000"/>
            <a:ext cx="1523880" cy="914400"/>
          </a:xfrm>
          <a:prstGeom prst="rect">
            <a:avLst/>
          </a:prstGeom>
          <a:noFill/>
          <a:ln w="540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81080" y="3276720"/>
            <a:ext cx="0" cy="8380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81080" y="4114800"/>
            <a:ext cx="914400" cy="3049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71800" y="3809880"/>
            <a:ext cx="3962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st URL addresses begin with “http” followed by a colon and 2 forward slash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09480" y="1219320"/>
            <a:ext cx="815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http:// www .weather.com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1219320"/>
            <a:ext cx="1676520" cy="990360"/>
          </a:xfrm>
          <a:prstGeom prst="rect">
            <a:avLst/>
          </a:prstGeom>
          <a:noFill/>
          <a:ln w="540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3276720"/>
            <a:ext cx="541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www” stands for World Wide Web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191120" y="304920"/>
            <a:ext cx="1600200" cy="838080"/>
          </a:xfrm>
          <a:prstGeom prst="line">
            <a:avLst/>
          </a:prstGeom>
          <a:ln w="54000">
            <a:solidFill>
              <a:srgbClr val="00cc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120" y="99072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http://www . weather . com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1219320"/>
            <a:ext cx="304920" cy="609480"/>
          </a:xfrm>
          <a:prstGeom prst="rect">
            <a:avLst/>
          </a:prstGeom>
          <a:noFill/>
          <a:ln w="540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1219320"/>
            <a:ext cx="304560" cy="609480"/>
          </a:xfrm>
          <a:prstGeom prst="rect">
            <a:avLst/>
          </a:prstGeom>
          <a:noFill/>
          <a:ln w="540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2362320"/>
            <a:ext cx="48765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Dots” are used to separate the different sections of the URL addres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267080" y="228600"/>
            <a:ext cx="1600200" cy="838080"/>
          </a:xfrm>
          <a:prstGeom prst="line">
            <a:avLst/>
          </a:prstGeom>
          <a:ln w="54000">
            <a:solidFill>
              <a:srgbClr val="00cc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934320" y="228600"/>
            <a:ext cx="1600200" cy="838080"/>
          </a:xfrm>
          <a:prstGeom prst="line">
            <a:avLst/>
          </a:prstGeom>
          <a:ln w="54000">
            <a:solidFill>
              <a:srgbClr val="00cc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09480" y="144792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http://www.weather .com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629400" y="1523880"/>
            <a:ext cx="1676520" cy="914400"/>
          </a:xfrm>
          <a:prstGeom prst="rect">
            <a:avLst/>
          </a:prstGeom>
          <a:noFill/>
          <a:ln w="540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3733920"/>
            <a:ext cx="640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.com” tells you that this is a commercial websit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6095880" y="457200"/>
            <a:ext cx="1067040" cy="914400"/>
          </a:xfrm>
          <a:prstGeom prst="line">
            <a:avLst/>
          </a:prstGeom>
          <a:ln w="54000">
            <a:solidFill>
              <a:srgbClr val="00cc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0" t="0" r="-3119" b="-3118"/>
          <a:stretch/>
        </p:blipFill>
        <p:spPr>
          <a:xfrm>
            <a:off x="914400" y="685800"/>
            <a:ext cx="7543800" cy="56577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876920" y="2971800"/>
            <a:ext cx="2971800" cy="2286000"/>
          </a:xfrm>
          <a:prstGeom prst="rect">
            <a:avLst/>
          </a:prstGeom>
          <a:solidFill>
            <a:srgbClr val="6600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3048120" y="1828440"/>
            <a:ext cx="1676160" cy="121932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3276720"/>
            <a:ext cx="2743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This is the address lin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6T18:40:02Z</dcterms:created>
  <dc:creator>dses</dc:creator>
  <dc:description/>
  <dc:language>en-US</dc:language>
  <cp:lastModifiedBy>cccti</cp:lastModifiedBy>
  <dcterms:modified xsi:type="dcterms:W3CDTF">2003-09-04T20:15:25Z</dcterms:modified>
  <cp:revision>20</cp:revision>
  <dc:subject/>
  <dc:title>PowerPoint Presentation</dc:title>
</cp:coreProperties>
</file>