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5.gif" ContentType="image/gif"/>
  <Override PartName="/ppt/media/image8.png" ContentType="image/png"/>
  <Override PartName="/ppt/media/image14.jpeg" ContentType="image/jpeg"/>
  <Override PartName="/ppt/media/image16.wmf" ContentType="image/x-wmf"/>
  <Override PartName="/ppt/media/image1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0.png" ContentType="image/png"/>
  <Override PartName="/ppt/media/image12.wmf" ContentType="image/x-wmf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11.wmf" ContentType="image/x-wmf"/>
  <Override PartName="/ppt/media/image4.gif" ContentType="image/gi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2BE-2406-4F09-93F4-5A3D2B6F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472-2DA6-40D7-BE17-57630779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5CE-8952-467F-973F-AF4F4ECC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97E-E87D-425F-8F82-F57E986C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4FF-C951-4087-9266-907C043B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F20-A3FA-42D8-90FB-6822BF57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531-7637-4B34-AA71-D6B8C602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2CF-7358-4770-8910-067F5131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81D-AC16-4785-94F7-F864B51C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2CE-5F22-45FB-94C1-E415A762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839-5482-4630-A6AB-748CFBF6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F53-16CE-4C87-A8D5-5E89F3D4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B948-FF62-4556-80D5-5BBD30DE0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wmf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wmf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wmf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slide" Target="slide13.xml"/><Relationship Id="rId6" Type="http://schemas.openxmlformats.org/officeDocument/2006/relationships/slide" Target="slide20.xml"/><Relationship Id="rId7" Type="http://schemas.openxmlformats.org/officeDocument/2006/relationships/slide" Target="slide6.xml"/><Relationship Id="rId8" Type="http://schemas.openxmlformats.org/officeDocument/2006/relationships/slide" Target="slide12.xml"/><Relationship Id="rId9" Type="http://schemas.openxmlformats.org/officeDocument/2006/relationships/slide" Target="slide19.xml"/><Relationship Id="rId10" Type="http://schemas.openxmlformats.org/officeDocument/2006/relationships/slide" Target="slide4.xml"/><Relationship Id="rId11" Type="http://schemas.openxmlformats.org/officeDocument/2006/relationships/slide" Target="slide10.xml"/><Relationship Id="rId12" Type="http://schemas.openxmlformats.org/officeDocument/2006/relationships/slide" Target="slide17.xml"/><Relationship Id="rId13" Type="http://schemas.openxmlformats.org/officeDocument/2006/relationships/slide" Target="slide14.xml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9.wmf"/><Relationship Id="rId4" Type="http://schemas.openxmlformats.org/officeDocument/2006/relationships/image" Target="../media/image11.wmf"/><Relationship Id="rId5" Type="http://schemas.openxmlformats.org/officeDocument/2006/relationships/image" Target="../media/image7.wmf"/><Relationship Id="rId6" Type="http://schemas.openxmlformats.org/officeDocument/2006/relationships/image" Target="../media/image15.png"/><Relationship Id="rId7" Type="http://schemas.openxmlformats.org/officeDocument/2006/relationships/image" Target="../media/image14.jpeg"/><Relationship Id="rId8" Type="http://schemas.openxmlformats.org/officeDocument/2006/relationships/image" Target="../media/image10.png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9.wmf"/><Relationship Id="rId4" Type="http://schemas.openxmlformats.org/officeDocument/2006/relationships/image" Target="../media/image7.wmf"/><Relationship Id="rId5" Type="http://schemas.openxmlformats.org/officeDocument/2006/relationships/image" Target="../media/image9.wmf"/><Relationship Id="rId6" Type="http://schemas.openxmlformats.org/officeDocument/2006/relationships/image" Target="../media/image11.wmf"/><Relationship Id="rId7" Type="http://schemas.openxmlformats.org/officeDocument/2006/relationships/image" Target="../media/image20.wmf"/><Relationship Id="rId8" Type="http://schemas.openxmlformats.org/officeDocument/2006/relationships/image" Target="../media/image17.wmf"/><Relationship Id="rId9" Type="http://schemas.openxmlformats.org/officeDocument/2006/relationships/image" Target="../media/image15.png"/><Relationship Id="rId10" Type="http://schemas.openxmlformats.org/officeDocument/2006/relationships/image" Target="../media/image10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wm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wmf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wmf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Comic Sans MS"/>
              </a:rPr>
              <a:t>Traffic Signs 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429000" cy="252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73484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81680" y="4800600"/>
            <a:ext cx="173376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9480" y="2514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010280" y="2438280"/>
            <a:ext cx="1408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4382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2438280" y="1828800"/>
            <a:ext cx="4648320" cy="320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3388800">
            <a:off x="5562000" y="3352680"/>
            <a:ext cx="1067040" cy="1523880"/>
          </a:xfrm>
          <a:prstGeom prst="upArrow">
            <a:avLst>
              <a:gd name="adj1" fmla="val 50000"/>
              <a:gd name="adj2" fmla="val 35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057400"/>
            <a:ext cx="3200400" cy="143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 Unicode MS"/>
              </a:rPr>
              <a:t>EXI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3352680"/>
            <a:ext cx="480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9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9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9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9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057400" y="1447920"/>
            <a:ext cx="5181480" cy="4254480"/>
            <a:chOff x="2057400" y="1447920"/>
            <a:chExt cx="5181480" cy="4254480"/>
          </a:xfrm>
        </p:grpSpPr>
        <p:sp>
          <p:nvSpPr>
            <p:cNvPr id="77" name="">
              <a:hlinkClick r:id="rId1" action="ppaction://hlinksldjump"/>
            </p:cNvPr>
            <p:cNvSpPr/>
            <p:nvPr/>
          </p:nvSpPr>
          <p:spPr>
            <a:xfrm>
              <a:off x="2057400" y="1447920"/>
              <a:ext cx="5181480" cy="396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62320" y="2057400"/>
              <a:ext cx="609480" cy="990720"/>
            </a:xfrm>
            <a:prstGeom prst="upArrow">
              <a:avLst>
                <a:gd name="adj1" fmla="val 50000"/>
                <a:gd name="adj2" fmla="val 4063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8120" y="1752480"/>
              <a:ext cx="3962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Unicode MS"/>
                </a:rPr>
                <a:t>Granite Falls Lenoi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8280" y="3962520"/>
              <a:ext cx="266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 Unicode MS"/>
                </a:rPr>
                <a:t>Hickor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86400" y="4191120"/>
              <a:ext cx="1066680" cy="561960"/>
            </a:xfrm>
            <a:prstGeom prst="rightArrow">
              <a:avLst>
                <a:gd name="adj1" fmla="val 50000"/>
                <a:gd name="adj2" fmla="val 47454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8380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057400" y="1676520"/>
            <a:ext cx="5638680" cy="3962160"/>
            <a:chOff x="2057400" y="1676520"/>
            <a:chExt cx="5638680" cy="3962160"/>
          </a:xfrm>
        </p:grpSpPr>
        <p:sp>
          <p:nvSpPr>
            <p:cNvPr id="86" name="">
              <a:hlinkClick r:id="rId3" action="ppaction://hlinksldjump"/>
            </p:cNvPr>
            <p:cNvSpPr/>
            <p:nvPr/>
          </p:nvSpPr>
          <p:spPr>
            <a:xfrm>
              <a:off x="2057400" y="1676520"/>
              <a:ext cx="5638680" cy="396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62320" y="2362320"/>
              <a:ext cx="5029200" cy="23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Unicode MS"/>
                </a:rPr>
                <a:t>Charlotte  2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Unicode MS"/>
                </a:rPr>
                <a:t>Concord   4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67080" y="28954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362320" y="1295280"/>
            <a:ext cx="441936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43200" y="762120"/>
            <a:ext cx="373392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Unicode MS"/>
              </a:rPr>
              <a:t>Speed Limi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5000" spc="-1" strike="noStrike">
                <a:solidFill>
                  <a:srgbClr val="000000"/>
                </a:solidFill>
                <a:latin typeface="Arial Unicode MS"/>
              </a:rPr>
              <a:t>55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10160" cy="461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14600" y="1295280"/>
            <a:ext cx="3962520" cy="3957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 flipV="1" rot="16200000">
            <a:off x="3467160" y="2324160"/>
            <a:ext cx="2362320" cy="1828800"/>
          </a:xfrm>
          <a:custGeom>
            <a:avLst/>
            <a:gdLst>
              <a:gd name="textAreaLeft" fmla="*/ 787320 w 2362320"/>
              <a:gd name="textAreaRight" fmla="*/ 2023560 w 2362320"/>
              <a:gd name="textAreaTop" fmla="*/ 1053720 h 1828800"/>
              <a:gd name="textAreaBottom" fmla="*/ 15667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33920" y="2514600"/>
            <a:ext cx="990360" cy="990720"/>
          </a:xfrm>
          <a:prstGeom prst="line">
            <a:avLst/>
          </a:prstGeom>
          <a:ln cap="sq" w="27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2438280" y="1143000"/>
            <a:ext cx="4419720" cy="3200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4190760" cy="2514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38280" y="4343400"/>
            <a:ext cx="44197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343400"/>
            <a:ext cx="3657600" cy="838080"/>
          </a:xfrm>
          <a:prstGeom prst="rightArrow">
            <a:avLst>
              <a:gd name="adj1" fmla="val 50000"/>
              <a:gd name="adj2" fmla="val 109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143000"/>
            <a:ext cx="4572000" cy="4533840"/>
          </a:xfrm>
          <a:prstGeom prst="rect">
            <a:avLst/>
          </a:prstGeom>
          <a:ln w="95400">
            <a:solidFill>
              <a:srgbClr val="ffffff"/>
            </a:solidFill>
            <a:miter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raffic Signs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600200"/>
          <a:ext cx="7772400" cy="48006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igns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igns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igns 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687240"/>
            <a:ext cx="5638680" cy="5180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725400" cy="719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0" y="327672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267080" y="4038480"/>
            <a:ext cx="609840" cy="1143000"/>
            <a:chOff x="4267080" y="4038480"/>
            <a:chExt cx="609840" cy="114300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4313880" y="4038480"/>
              <a:ext cx="5626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67080" y="4098240"/>
              <a:ext cx="609840" cy="601560"/>
            </a:xfrm>
            <a:prstGeom prst="noSmoking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038480" y="5486400"/>
            <a:ext cx="1143000" cy="5842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57200" y="3200400"/>
            <a:ext cx="990720" cy="652320"/>
            <a:chOff x="457200" y="3200400"/>
            <a:chExt cx="990720" cy="652320"/>
          </a:xfrm>
        </p:grpSpPr>
        <p:sp>
          <p:nvSpPr>
            <p:cNvPr id="115" name=""/>
            <p:cNvSpPr/>
            <p:nvPr/>
          </p:nvSpPr>
          <p:spPr>
            <a:xfrm>
              <a:off x="457200" y="3247200"/>
              <a:ext cx="990720" cy="562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3388800">
              <a:off x="1049400" y="3493080"/>
              <a:ext cx="255600" cy="326160"/>
            </a:xfrm>
            <a:prstGeom prst="upArrow">
              <a:avLst>
                <a:gd name="adj1" fmla="val 50000"/>
                <a:gd name="adj2" fmla="val 3190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3200400"/>
              <a:ext cx="8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Unicode MS"/>
                </a:rPr>
                <a:t>Ex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705720" y="5562720"/>
            <a:ext cx="990360" cy="871560"/>
            <a:chOff x="6705720" y="5562720"/>
            <a:chExt cx="990360" cy="871560"/>
          </a:xfrm>
        </p:grpSpPr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6705720" y="5562720"/>
              <a:ext cx="9903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010280" y="5715360"/>
              <a:ext cx="381240" cy="533160"/>
            </a:xfrm>
            <a:custGeom>
              <a:avLst/>
              <a:gdLst/>
              <a:ahLst/>
              <a:rect l="l" t="t" r="r" b="b"/>
              <a:pathLst>
                <a:path w="2326" h="2056">
                  <a:moveTo>
                    <a:pt x="1277" y="1969"/>
                  </a:moveTo>
                  <a:lnTo>
                    <a:pt x="1265" y="1989"/>
                  </a:lnTo>
                  <a:lnTo>
                    <a:pt x="1251" y="2006"/>
                  </a:lnTo>
                  <a:lnTo>
                    <a:pt x="1237" y="2021"/>
                  </a:lnTo>
                  <a:lnTo>
                    <a:pt x="1224" y="2033"/>
                  </a:lnTo>
                  <a:lnTo>
                    <a:pt x="1209" y="2044"/>
                  </a:lnTo>
                  <a:lnTo>
                    <a:pt x="1195" y="2051"/>
                  </a:lnTo>
                  <a:lnTo>
                    <a:pt x="1180" y="2055"/>
                  </a:lnTo>
                  <a:lnTo>
                    <a:pt x="1165" y="2056"/>
                  </a:lnTo>
                  <a:lnTo>
                    <a:pt x="1150" y="2055"/>
                  </a:lnTo>
                  <a:lnTo>
                    <a:pt x="1135" y="2051"/>
                  </a:lnTo>
                  <a:lnTo>
                    <a:pt x="1120" y="2044"/>
                  </a:lnTo>
                  <a:lnTo>
                    <a:pt x="1107" y="2033"/>
                  </a:lnTo>
                  <a:lnTo>
                    <a:pt x="1092" y="2022"/>
                  </a:lnTo>
                  <a:lnTo>
                    <a:pt x="1078" y="2007"/>
                  </a:lnTo>
                  <a:lnTo>
                    <a:pt x="1066" y="1989"/>
                  </a:lnTo>
                  <a:lnTo>
                    <a:pt x="1054" y="1970"/>
                  </a:lnTo>
                  <a:lnTo>
                    <a:pt x="30" y="194"/>
                  </a:lnTo>
                  <a:lnTo>
                    <a:pt x="11" y="154"/>
                  </a:lnTo>
                  <a:lnTo>
                    <a:pt x="0" y="116"/>
                  </a:lnTo>
                  <a:lnTo>
                    <a:pt x="0" y="82"/>
                  </a:lnTo>
                  <a:lnTo>
                    <a:pt x="11" y="53"/>
                  </a:lnTo>
                  <a:lnTo>
                    <a:pt x="19" y="41"/>
                  </a:lnTo>
                  <a:lnTo>
                    <a:pt x="30" y="30"/>
                  </a:lnTo>
                  <a:lnTo>
                    <a:pt x="44" y="22"/>
                  </a:lnTo>
                  <a:lnTo>
                    <a:pt x="60" y="14"/>
                  </a:lnTo>
                  <a:lnTo>
                    <a:pt x="78" y="8"/>
                  </a:lnTo>
                  <a:lnTo>
                    <a:pt x="97" y="4"/>
                  </a:lnTo>
                  <a:lnTo>
                    <a:pt x="119" y="1"/>
                  </a:lnTo>
                  <a:lnTo>
                    <a:pt x="142" y="0"/>
                  </a:lnTo>
                  <a:lnTo>
                    <a:pt x="2186" y="0"/>
                  </a:lnTo>
                  <a:lnTo>
                    <a:pt x="2209" y="1"/>
                  </a:lnTo>
                  <a:lnTo>
                    <a:pt x="2231" y="4"/>
                  </a:lnTo>
                  <a:lnTo>
                    <a:pt x="2250" y="8"/>
                  </a:lnTo>
                  <a:lnTo>
                    <a:pt x="2268" y="14"/>
                  </a:lnTo>
                  <a:lnTo>
                    <a:pt x="2284" y="22"/>
                  </a:lnTo>
                  <a:lnTo>
                    <a:pt x="2298" y="30"/>
                  </a:lnTo>
                  <a:lnTo>
                    <a:pt x="2309" y="41"/>
                  </a:lnTo>
                  <a:lnTo>
                    <a:pt x="2317" y="53"/>
                  </a:lnTo>
                  <a:lnTo>
                    <a:pt x="2326" y="82"/>
                  </a:lnTo>
                  <a:lnTo>
                    <a:pt x="2326" y="116"/>
                  </a:lnTo>
                  <a:lnTo>
                    <a:pt x="2317" y="154"/>
                  </a:lnTo>
                  <a:lnTo>
                    <a:pt x="2298" y="194"/>
                  </a:lnTo>
                  <a:lnTo>
                    <a:pt x="1277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91120" y="3048120"/>
            <a:ext cx="685800" cy="761760"/>
            <a:chOff x="4191120" y="3048120"/>
            <a:chExt cx="685800" cy="761760"/>
          </a:xfrm>
        </p:grpSpPr>
        <p:sp>
          <p:nvSpPr>
            <p:cNvPr id="122" name=""/>
            <p:cNvSpPr/>
            <p:nvPr/>
          </p:nvSpPr>
          <p:spPr>
            <a:xfrm flipV="1" rot="16200000">
              <a:off x="4287600" y="3188160"/>
              <a:ext cx="523800" cy="412920"/>
            </a:xfrm>
            <a:custGeom>
              <a:avLst/>
              <a:gdLst>
                <a:gd name="textAreaLeft" fmla="*/ 174600 w 523800"/>
                <a:gd name="textAreaRight" fmla="*/ 448920 w 523800"/>
                <a:gd name="textAreaTop" fmla="*/ 237600 h 412920"/>
                <a:gd name="textAreaBottom" fmla="*/ 35352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91120" y="3048120"/>
              <a:ext cx="685800" cy="761760"/>
            </a:xfrm>
            <a:prstGeom prst="noSmoking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705720" y="990720"/>
            <a:ext cx="914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990720"/>
            <a:ext cx="838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Unicode MS"/>
              </a:rPr>
              <a:t>Speed Limi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</a:rPr>
              <a:t>5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Traffic Signs 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295280"/>
            <a:ext cx="2133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ike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andicapped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spi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424160"/>
            <a:ext cx="152424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le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Right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-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685800"/>
            <a:ext cx="144792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peed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op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ffic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urning L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6781680" y="4343400"/>
            <a:ext cx="876600" cy="8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 rot="21221400">
            <a:off x="533520" y="4876560"/>
            <a:ext cx="914400" cy="77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6705720" y="22096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457200" y="2286000"/>
            <a:ext cx="1218960" cy="685800"/>
            <a:chOff x="457200" y="2286000"/>
            <a:chExt cx="1218960" cy="685800"/>
          </a:xfrm>
        </p:grpSpPr>
        <p:sp>
          <p:nvSpPr>
            <p:cNvPr id="134" name=""/>
            <p:cNvSpPr/>
            <p:nvPr/>
          </p:nvSpPr>
          <p:spPr>
            <a:xfrm>
              <a:off x="457200" y="2286000"/>
              <a:ext cx="1218960" cy="685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8480" y="2390760"/>
              <a:ext cx="144360" cy="171360"/>
            </a:xfrm>
            <a:prstGeom prst="upArrow">
              <a:avLst>
                <a:gd name="adj1" fmla="val 50000"/>
                <a:gd name="adj2" fmla="val 29676"/>
              </a:avLst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0480" y="2338200"/>
              <a:ext cx="931680" cy="307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Unicode MS"/>
                </a:rPr>
                <a:t>Leno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160" y="2666880"/>
              <a:ext cx="824040" cy="276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Hick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63600" y="2760480"/>
              <a:ext cx="250920" cy="96840"/>
            </a:xfrm>
            <a:prstGeom prst="rightArrow">
              <a:avLst>
                <a:gd name="adj1" fmla="val 50000"/>
                <a:gd name="adj2" fmla="val 64777"/>
              </a:avLst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09880" y="2133720"/>
            <a:ext cx="1371600" cy="1108440"/>
            <a:chOff x="3809880" y="2133720"/>
            <a:chExt cx="1371600" cy="1108440"/>
          </a:xfrm>
        </p:grpSpPr>
        <p:sp>
          <p:nvSpPr>
            <p:cNvPr id="140" name=""/>
            <p:cNvSpPr/>
            <p:nvPr/>
          </p:nvSpPr>
          <p:spPr>
            <a:xfrm>
              <a:off x="3809880" y="2133720"/>
              <a:ext cx="1371600" cy="738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82960" y="2184480"/>
              <a:ext cx="1225440" cy="1057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Charlotte  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Concord   4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28600" y="5586480"/>
            <a:ext cx="121932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4114800" y="1066680"/>
            <a:ext cx="762120" cy="887400"/>
            <a:chOff x="4114800" y="1066680"/>
            <a:chExt cx="762120" cy="887400"/>
          </a:xfrm>
        </p:grpSpPr>
        <p:pic>
          <p:nvPicPr>
            <p:cNvPr id="144" name="" descr=""/>
            <p:cNvPicPr/>
            <p:nvPr/>
          </p:nvPicPr>
          <p:blipFill>
            <a:blip r:embed="rId10"/>
            <a:stretch/>
          </p:blipFill>
          <p:spPr>
            <a:xfrm>
              <a:off x="4114800" y="1066680"/>
              <a:ext cx="7621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184640" y="1130760"/>
              <a:ext cx="5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Unicode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33520" y="1143000"/>
            <a:ext cx="990360" cy="762120"/>
            <a:chOff x="533520" y="1143000"/>
            <a:chExt cx="990360" cy="762120"/>
          </a:xfrm>
        </p:grpSpPr>
        <p:sp>
          <p:nvSpPr>
            <p:cNvPr id="147" name=""/>
            <p:cNvSpPr/>
            <p:nvPr/>
          </p:nvSpPr>
          <p:spPr>
            <a:xfrm>
              <a:off x="533520" y="1143000"/>
              <a:ext cx="9903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1"/>
            <a:stretch/>
          </p:blipFill>
          <p:spPr>
            <a:xfrm>
              <a:off x="533520" y="1219320"/>
              <a:ext cx="990360" cy="6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725400" cy="71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57800" y="1066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133720" y="2209680"/>
            <a:ext cx="1143000" cy="1051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029200" y="3505320"/>
            <a:ext cx="990720" cy="87156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8001000" y="2133720"/>
            <a:ext cx="762120" cy="1218960"/>
            <a:chOff x="8001000" y="2133720"/>
            <a:chExt cx="762120" cy="1218960"/>
          </a:xfrm>
        </p:grpSpPr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8059680" y="2133720"/>
              <a:ext cx="7034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001000" y="2197440"/>
              <a:ext cx="762120" cy="641520"/>
            </a:xfrm>
            <a:prstGeom prst="noSmoking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848720" y="1219320"/>
            <a:ext cx="990360" cy="583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209680" y="3505320"/>
            <a:ext cx="828720" cy="104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38080" y="2362320"/>
            <a:ext cx="12193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3388800">
            <a:off x="1593000" y="2826360"/>
            <a:ext cx="415800" cy="401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362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5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3657600"/>
            <a:ext cx="380880" cy="533520"/>
          </a:xfrm>
          <a:custGeom>
            <a:avLst/>
            <a:gdLst/>
            <a:ahLst/>
            <a:rect l="l" t="t" r="r" b="b"/>
            <a:pathLst>
              <a:path w="2326" h="2056">
                <a:moveTo>
                  <a:pt x="1277" y="1969"/>
                </a:moveTo>
                <a:lnTo>
                  <a:pt x="1265" y="1989"/>
                </a:lnTo>
                <a:lnTo>
                  <a:pt x="1251" y="2006"/>
                </a:lnTo>
                <a:lnTo>
                  <a:pt x="1237" y="2021"/>
                </a:lnTo>
                <a:lnTo>
                  <a:pt x="1224" y="2033"/>
                </a:lnTo>
                <a:lnTo>
                  <a:pt x="1209" y="2044"/>
                </a:lnTo>
                <a:lnTo>
                  <a:pt x="1195" y="2051"/>
                </a:lnTo>
                <a:lnTo>
                  <a:pt x="1180" y="2055"/>
                </a:lnTo>
                <a:lnTo>
                  <a:pt x="1165" y="2056"/>
                </a:lnTo>
                <a:lnTo>
                  <a:pt x="1150" y="2055"/>
                </a:lnTo>
                <a:lnTo>
                  <a:pt x="1135" y="2051"/>
                </a:lnTo>
                <a:lnTo>
                  <a:pt x="1120" y="2044"/>
                </a:lnTo>
                <a:lnTo>
                  <a:pt x="1107" y="2033"/>
                </a:lnTo>
                <a:lnTo>
                  <a:pt x="1092" y="2022"/>
                </a:lnTo>
                <a:lnTo>
                  <a:pt x="1078" y="2007"/>
                </a:lnTo>
                <a:lnTo>
                  <a:pt x="1066" y="1989"/>
                </a:lnTo>
                <a:lnTo>
                  <a:pt x="1054" y="1970"/>
                </a:lnTo>
                <a:lnTo>
                  <a:pt x="30" y="194"/>
                </a:lnTo>
                <a:lnTo>
                  <a:pt x="11" y="154"/>
                </a:lnTo>
                <a:lnTo>
                  <a:pt x="0" y="116"/>
                </a:lnTo>
                <a:lnTo>
                  <a:pt x="0" y="82"/>
                </a:lnTo>
                <a:lnTo>
                  <a:pt x="11" y="53"/>
                </a:lnTo>
                <a:lnTo>
                  <a:pt x="19" y="41"/>
                </a:lnTo>
                <a:lnTo>
                  <a:pt x="30" y="30"/>
                </a:lnTo>
                <a:lnTo>
                  <a:pt x="44" y="22"/>
                </a:lnTo>
                <a:lnTo>
                  <a:pt x="60" y="14"/>
                </a:lnTo>
                <a:lnTo>
                  <a:pt x="78" y="8"/>
                </a:lnTo>
                <a:lnTo>
                  <a:pt x="97" y="4"/>
                </a:lnTo>
                <a:lnTo>
                  <a:pt x="119" y="1"/>
                </a:lnTo>
                <a:lnTo>
                  <a:pt x="142" y="0"/>
                </a:lnTo>
                <a:lnTo>
                  <a:pt x="2186" y="0"/>
                </a:lnTo>
                <a:lnTo>
                  <a:pt x="2209" y="1"/>
                </a:lnTo>
                <a:lnTo>
                  <a:pt x="2231" y="4"/>
                </a:lnTo>
                <a:lnTo>
                  <a:pt x="2250" y="8"/>
                </a:lnTo>
                <a:lnTo>
                  <a:pt x="2268" y="14"/>
                </a:lnTo>
                <a:lnTo>
                  <a:pt x="2284" y="22"/>
                </a:lnTo>
                <a:lnTo>
                  <a:pt x="2298" y="30"/>
                </a:lnTo>
                <a:lnTo>
                  <a:pt x="2309" y="41"/>
                </a:lnTo>
                <a:lnTo>
                  <a:pt x="2317" y="53"/>
                </a:lnTo>
                <a:lnTo>
                  <a:pt x="2326" y="82"/>
                </a:lnTo>
                <a:lnTo>
                  <a:pt x="2326" y="116"/>
                </a:lnTo>
                <a:lnTo>
                  <a:pt x="2317" y="154"/>
                </a:lnTo>
                <a:lnTo>
                  <a:pt x="2298" y="194"/>
                </a:lnTo>
                <a:lnTo>
                  <a:pt x="1277" y="19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6629040" y="2361960"/>
            <a:ext cx="838080" cy="685800"/>
          </a:xfrm>
          <a:custGeom>
            <a:avLst/>
            <a:gdLst>
              <a:gd name="textAreaLeft" fmla="*/ 279360 w 838080"/>
              <a:gd name="textAreaRight" fmla="*/ 717840 w 83808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133720"/>
            <a:ext cx="1143000" cy="1218960"/>
          </a:xfrm>
          <a:prstGeom prst="noSmoking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209680"/>
            <a:ext cx="990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2286000"/>
            <a:ext cx="9907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peed Limi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066680"/>
            <a:ext cx="990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685800" y="1143000"/>
            <a:ext cx="990720" cy="623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362320" y="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raffic Signs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752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800600"/>
            <a:ext cx="7848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No U-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 Hospital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Exi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 Intersta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One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Handicapp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 No Right Tur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Speed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Stop Sig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 Turning Lan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Traffic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Bike Rout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_____  Y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572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irections: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Match the signs with their meanings by writing the letters in the blan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2760" y="1434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200" y="1219320"/>
            <a:ext cx="2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61000" y="12193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39440" y="12193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3600" y="12193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08840" y="121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760" y="24382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6680" y="236232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5040" y="2362320"/>
            <a:ext cx="24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8080" y="236232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2720" y="23623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2133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9720" y="35053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2120" y="3657600"/>
            <a:ext cx="3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78640" y="12193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6553080" y="8380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3886200" y="9907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 rot="21221400">
            <a:off x="5181480" y="2361960"/>
            <a:ext cx="91440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114800" cy="36212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505320" y="2057400"/>
            <a:ext cx="2286000" cy="2133720"/>
          </a:xfrm>
          <a:custGeom>
            <a:avLst/>
            <a:gdLst/>
            <a:ahLst/>
            <a:rect l="l" t="t" r="r" b="b"/>
            <a:pathLst>
              <a:path w="2326" h="2056">
                <a:moveTo>
                  <a:pt x="1277" y="1969"/>
                </a:moveTo>
                <a:lnTo>
                  <a:pt x="1265" y="1989"/>
                </a:lnTo>
                <a:lnTo>
                  <a:pt x="1251" y="2006"/>
                </a:lnTo>
                <a:lnTo>
                  <a:pt x="1237" y="2021"/>
                </a:lnTo>
                <a:lnTo>
                  <a:pt x="1224" y="2033"/>
                </a:lnTo>
                <a:lnTo>
                  <a:pt x="1209" y="2044"/>
                </a:lnTo>
                <a:lnTo>
                  <a:pt x="1195" y="2051"/>
                </a:lnTo>
                <a:lnTo>
                  <a:pt x="1180" y="2055"/>
                </a:lnTo>
                <a:lnTo>
                  <a:pt x="1165" y="2056"/>
                </a:lnTo>
                <a:lnTo>
                  <a:pt x="1150" y="2055"/>
                </a:lnTo>
                <a:lnTo>
                  <a:pt x="1135" y="2051"/>
                </a:lnTo>
                <a:lnTo>
                  <a:pt x="1120" y="2044"/>
                </a:lnTo>
                <a:lnTo>
                  <a:pt x="1107" y="2033"/>
                </a:lnTo>
                <a:lnTo>
                  <a:pt x="1092" y="2022"/>
                </a:lnTo>
                <a:lnTo>
                  <a:pt x="1078" y="2007"/>
                </a:lnTo>
                <a:lnTo>
                  <a:pt x="1066" y="1989"/>
                </a:lnTo>
                <a:lnTo>
                  <a:pt x="1054" y="1970"/>
                </a:lnTo>
                <a:lnTo>
                  <a:pt x="30" y="194"/>
                </a:lnTo>
                <a:lnTo>
                  <a:pt x="11" y="154"/>
                </a:lnTo>
                <a:lnTo>
                  <a:pt x="0" y="116"/>
                </a:lnTo>
                <a:lnTo>
                  <a:pt x="0" y="82"/>
                </a:lnTo>
                <a:lnTo>
                  <a:pt x="11" y="53"/>
                </a:lnTo>
                <a:lnTo>
                  <a:pt x="19" y="41"/>
                </a:lnTo>
                <a:lnTo>
                  <a:pt x="30" y="30"/>
                </a:lnTo>
                <a:lnTo>
                  <a:pt x="44" y="22"/>
                </a:lnTo>
                <a:lnTo>
                  <a:pt x="60" y="14"/>
                </a:lnTo>
                <a:lnTo>
                  <a:pt x="78" y="8"/>
                </a:lnTo>
                <a:lnTo>
                  <a:pt x="97" y="4"/>
                </a:lnTo>
                <a:lnTo>
                  <a:pt x="119" y="1"/>
                </a:lnTo>
                <a:lnTo>
                  <a:pt x="142" y="0"/>
                </a:lnTo>
                <a:lnTo>
                  <a:pt x="2186" y="0"/>
                </a:lnTo>
                <a:lnTo>
                  <a:pt x="2209" y="1"/>
                </a:lnTo>
                <a:lnTo>
                  <a:pt x="2231" y="4"/>
                </a:lnTo>
                <a:lnTo>
                  <a:pt x="2250" y="8"/>
                </a:lnTo>
                <a:lnTo>
                  <a:pt x="2268" y="14"/>
                </a:lnTo>
                <a:lnTo>
                  <a:pt x="2284" y="22"/>
                </a:lnTo>
                <a:lnTo>
                  <a:pt x="2298" y="30"/>
                </a:lnTo>
                <a:lnTo>
                  <a:pt x="2309" y="41"/>
                </a:lnTo>
                <a:lnTo>
                  <a:pt x="2317" y="53"/>
                </a:lnTo>
                <a:lnTo>
                  <a:pt x="2326" y="82"/>
                </a:lnTo>
                <a:lnTo>
                  <a:pt x="2326" y="116"/>
                </a:lnTo>
                <a:lnTo>
                  <a:pt x="2317" y="154"/>
                </a:lnTo>
                <a:lnTo>
                  <a:pt x="2298" y="194"/>
                </a:lnTo>
                <a:lnTo>
                  <a:pt x="1277" y="19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5480" y="1066680"/>
            <a:ext cx="3276720" cy="47246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048120" y="1219320"/>
            <a:ext cx="2819160" cy="281916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438280" y="11430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90920" y="2209680"/>
            <a:ext cx="4038480" cy="2381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1295280"/>
            <a:ext cx="3809880" cy="426744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4267080" y="3200400"/>
            <a:ext cx="83844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1295280"/>
            <a:ext cx="3809880" cy="4267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43400" y="4038480"/>
            <a:ext cx="685800" cy="762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1295280"/>
            <a:ext cx="3809880" cy="4267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43400" y="2286000"/>
            <a:ext cx="685800" cy="838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9:02:59Z</dcterms:created>
  <dc:creator>DSES</dc:creator>
  <dc:description/>
  <dc:language>en-US</dc:language>
  <cp:lastModifiedBy> </cp:lastModifiedBy>
  <dcterms:modified xsi:type="dcterms:W3CDTF">2004-07-29T15:48:31Z</dcterms:modified>
  <cp:revision>52</cp:revision>
  <dc:subject/>
  <dc:title>Traffic Signs Jeopardy</dc:title>
</cp:coreProperties>
</file>