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type.wav" ContentType="audio/x-wav"/>
  <Override PartName="/ppt/media/camera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D5AC-BF3A-420F-8395-47875C6F3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5923-9F6C-4B43-B317-7B556D8A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C46F-0976-4507-9102-AD80A229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01F8-EFE8-4DFB-8FC7-5F6B196C2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5E54-CB6F-449E-954C-8BE6EC8F4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C4687-E161-41FC-8FCD-9CDC3E2E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6353-633A-451B-B4FE-97D07AA6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2274-35B4-41A4-9D1A-46E6314A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D7EB-2BF1-4F3C-B309-EF6E31A9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2D123-7D7C-41D0-A866-3802AE8E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EAD4-3869-4D85-8757-A08102DC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0179-BB88-4164-A3C7-DDEBD47B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49ED6-9EB4-462B-9D28-B1FB6B33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6BF7-0DE7-4833-8F47-23CAEA35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E976-1292-4734-A5AF-532E0C85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0B34-F585-4950-828B-B769F322C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230B-8997-4C9B-83E7-0095A7B07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CEB7-47FD-4EE8-94CD-2CA54CA5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8819-423E-480B-8451-1B79BB79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0B67-2128-4F11-A1BF-9913C0BD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5E72-37F2-4629-8053-DC06DA20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0E96-B627-43A2-9E4E-1840135D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06B3-1E53-412E-A5EF-1730FB33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8B17-651D-4C13-9E10-A3C29870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1657-40C7-4552-A9FA-048621557900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EBD8-A1A3-49B8-9F24-43A734B4096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66680" y="685800"/>
            <a:ext cx="6782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aeaea"/>
                </a:solidFill>
                <a:latin typeface="Arial"/>
              </a:rPr>
              <a:t>How to Read a Thermometer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971800" y="2971800"/>
            <a:ext cx="3002040" cy="3429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867280" y="4267080"/>
            <a:ext cx="1600200" cy="10670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2286000"/>
            <a:ext cx="838080" cy="2209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248520" y="1371240"/>
            <a:ext cx="0" cy="29718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086600" y="1371240"/>
            <a:ext cx="0" cy="29718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248520" y="1523880"/>
            <a:ext cx="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48520" y="137160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248520" y="228600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259092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289548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48520" y="320040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48520" y="350532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48520" y="380988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248520" y="411480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0600" y="20574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1676520"/>
            <a:ext cx="3733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The lines on most thermometers count by two’s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162920" y="3886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9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162920" y="3581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162920" y="3276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2920" y="29718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162920" y="2666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86600" y="2362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86600" y="20574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10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238880" y="1295280"/>
            <a:ext cx="152640" cy="15264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391520" y="12193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867280" y="4267080"/>
            <a:ext cx="1600200" cy="10670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2590920"/>
            <a:ext cx="838080" cy="190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248520" y="1371240"/>
            <a:ext cx="0" cy="29718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086600" y="1371240"/>
            <a:ext cx="0" cy="29718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248520" y="1523880"/>
            <a:ext cx="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37160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228600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48520" y="259092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48520" y="289548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320040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48520" y="350532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48520" y="380988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48520" y="411480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62920" y="3886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62920" y="3581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9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62920" y="3276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162920" y="29718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162920" y="2666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086600" y="20574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238880" y="1295280"/>
            <a:ext cx="152640" cy="15264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91520" y="12193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53352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What is the temperature on this thermometer?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90720" y="396252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buClr>
                <a:srgbClr val="eaeaea"/>
              </a:buClr>
              <a:buFont typeface="Arial"/>
              <a:buAutoNum type="arabicPlain" startAt="9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19520" y="4038480"/>
            <a:ext cx="152280" cy="15264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472428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98 degrees Fahrenheit”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867280" y="4267080"/>
            <a:ext cx="1600200" cy="10670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48520" y="2590920"/>
            <a:ext cx="838080" cy="190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248520" y="1371240"/>
            <a:ext cx="0" cy="29718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7086600" y="1371240"/>
            <a:ext cx="0" cy="29718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6248520" y="1523880"/>
            <a:ext cx="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48520" y="137160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228600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248520" y="259092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289548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48520" y="320040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48520" y="350532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48520" y="380988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411480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086600" y="3886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086600" y="3581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086600" y="3276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8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86600" y="29718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086600" y="2666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86600" y="20574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238880" y="1295280"/>
            <a:ext cx="152640" cy="15264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391520" y="12193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48520" y="198108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087680" y="17524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9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6858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Try this one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371600" y="32767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750"/>
              </a:spcBef>
              <a:buClr>
                <a:srgbClr val="eaeaea"/>
              </a:buClr>
              <a:buFont typeface="Arial"/>
              <a:buAutoNum type="arabicPlain" startAt="8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F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419112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86 degrees Fahrenheit”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0" y="3429000"/>
            <a:ext cx="152280" cy="15228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09480" y="685800"/>
            <a:ext cx="746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Normal body temperature is 98.6  F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81680" y="1600200"/>
            <a:ext cx="152640" cy="15228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320040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This means it is between 98 and 99 degrees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828800" y="914400"/>
            <a:ext cx="495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aeaea"/>
                </a:solidFill>
                <a:latin typeface="Arial"/>
              </a:rPr>
              <a:t>98.6  F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1066680"/>
            <a:ext cx="228600" cy="22860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4114800" y="2133720"/>
            <a:ext cx="1371600" cy="1828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403848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This is a </a:t>
            </a:r>
            <a:r>
              <a:rPr b="1" lang="en-US" sz="5400" spc="-1" strike="noStrike">
                <a:solidFill>
                  <a:srgbClr val="fe0000"/>
                </a:solidFill>
                <a:latin typeface="Arial"/>
              </a:rPr>
              <a:t>decimal point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066680" y="914400"/>
            <a:ext cx="1067040" cy="1066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52480" y="1295280"/>
            <a:ext cx="45720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95680" y="1295280"/>
            <a:ext cx="0" cy="8384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24280" y="12952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52880" y="12952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81480" y="12952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867280" y="1066680"/>
            <a:ext cx="0" cy="6858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5880" y="1066680"/>
            <a:ext cx="0" cy="6858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295280"/>
            <a:ext cx="1676520" cy="2286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53080" y="12952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781680" y="1295280"/>
            <a:ext cx="0" cy="8384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10080" y="12952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91120" y="2133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97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920" y="21337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98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478920" y="21337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99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38680" y="6858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2 .4 .6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24480" y="1066680"/>
            <a:ext cx="0" cy="6858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48120" y="3352680"/>
            <a:ext cx="30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98.6   F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876920" y="3962520"/>
            <a:ext cx="152280" cy="15228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518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emperature is “98 </a:t>
            </a:r>
            <a:r>
              <a:rPr b="1" lang="en-US" sz="4000" spc="-1" strike="noStrike">
                <a:solidFill>
                  <a:srgbClr val="fe0000"/>
                </a:solidFill>
                <a:latin typeface="Arial"/>
              </a:rPr>
              <a:t>poin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6” degrees Fahrenhei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267080" y="12952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09880" y="12952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38480" y="12952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12952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81280" y="12952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438280" y="12952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66880" y="12952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95480" y="12952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352680" y="1295280"/>
            <a:ext cx="0" cy="8384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8120" y="2133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96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638680" y="1295280"/>
            <a:ext cx="0" cy="8384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143000" y="990720"/>
            <a:ext cx="990720" cy="990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752480" y="1295280"/>
            <a:ext cx="48006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95680" y="1295280"/>
            <a:ext cx="0" cy="8384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12952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952880" y="12952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81480" y="12952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867280" y="1066680"/>
            <a:ext cx="0" cy="6858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5880" y="1066680"/>
            <a:ext cx="0" cy="6858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553080" y="1295280"/>
            <a:ext cx="1447920" cy="2286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553080" y="1066680"/>
            <a:ext cx="0" cy="6858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81680" y="1295280"/>
            <a:ext cx="0" cy="8384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10080" y="12952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91120" y="2133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98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920" y="21337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99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9280" y="213372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638680" y="6858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2 .4 .6 .8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324480" y="1066680"/>
            <a:ext cx="0" cy="6858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8120" y="3429000"/>
            <a:ext cx="30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99.8   F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76920" y="3962520"/>
            <a:ext cx="152280" cy="15228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2120" y="4876920"/>
            <a:ext cx="693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43000" y="502920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emperature is “99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poin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8” degrees Fahrenheit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267080" y="12952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38480" y="12952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12952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12952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638680" y="1295280"/>
            <a:ext cx="0" cy="8384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352680" y="1295280"/>
            <a:ext cx="0" cy="8384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24080" y="12952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95480" y="12952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666880" y="12952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438280" y="12952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21337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97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066680" y="990720"/>
            <a:ext cx="1067040" cy="1066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52480" y="1295280"/>
            <a:ext cx="41148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95680" y="1295280"/>
            <a:ext cx="0" cy="8384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724280" y="12952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952880" y="12952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181480" y="12952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867280" y="12952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95880" y="12952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867280" y="1295280"/>
            <a:ext cx="2133720" cy="2286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553080" y="12952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781680" y="1295280"/>
            <a:ext cx="0" cy="8384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10080" y="12952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38480" y="21337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259960" y="213372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0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2960" y="213372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0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24480" y="12952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447920" y="3352680"/>
            <a:ext cx="62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What is the temperature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44956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101.2   F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029200" y="4648320"/>
            <a:ext cx="152280" cy="15228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21337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99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267080" y="12952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038480" y="12952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09880" y="12952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81280" y="12952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638680" y="1295280"/>
            <a:ext cx="0" cy="8384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352680" y="1295280"/>
            <a:ext cx="0" cy="8384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24080" y="12952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895480" y="12952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66880" y="12952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438280" y="12952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4495680" y="1295280"/>
            <a:ext cx="0" cy="8384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724280" y="12952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952880" y="12952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81480" y="12952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867280" y="12952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095880" y="12952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553080" y="12952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81680" y="1295280"/>
            <a:ext cx="0" cy="8384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10080" y="12952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12952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905120" y="304920"/>
            <a:ext cx="32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Try this one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3657600"/>
            <a:ext cx="30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102.8   F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876920" y="3733920"/>
            <a:ext cx="152280" cy="152280"/>
          </a:xfrm>
          <a:prstGeom prst="ellipse">
            <a:avLst/>
          </a:prstGeom>
          <a:noFill/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267080" y="12952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038480" y="12952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09880" y="12952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81280" y="12952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895480" y="12952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12952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666880" y="12952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38280" y="12952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638680" y="1295280"/>
            <a:ext cx="0" cy="8384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352680" y="1295280"/>
            <a:ext cx="0" cy="8384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066680" y="990720"/>
            <a:ext cx="7620120" cy="1663560"/>
            <a:chOff x="1066680" y="990720"/>
            <a:chExt cx="7620120" cy="1663560"/>
          </a:xfrm>
        </p:grpSpPr>
        <p:sp>
          <p:nvSpPr>
            <p:cNvPr id="369" name=""/>
            <p:cNvSpPr/>
            <p:nvPr/>
          </p:nvSpPr>
          <p:spPr>
            <a:xfrm>
              <a:off x="1066680" y="990720"/>
              <a:ext cx="1067040" cy="9144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752480" y="1295280"/>
              <a:ext cx="4800600" cy="228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553080" y="1295280"/>
              <a:ext cx="2133720" cy="22860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038480" y="21337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aeaea"/>
                  </a:solidFill>
                  <a:latin typeface="Arial"/>
                </a:rPr>
                <a:t>101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259960" y="2133720"/>
              <a:ext cx="77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aeaea"/>
                  </a:solidFill>
                  <a:latin typeface="Arial"/>
                </a:rPr>
                <a:t>102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02960" y="2133720"/>
              <a:ext cx="77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aeaea"/>
                  </a:solidFill>
                  <a:latin typeface="Arial"/>
                </a:rPr>
                <a:t>103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971800" y="21337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aeaea"/>
                  </a:solidFill>
                  <a:latin typeface="Arial"/>
                </a:rPr>
                <a:t>100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905120" y="1219320"/>
            <a:ext cx="5029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A </a:t>
            </a:r>
            <a:r>
              <a:rPr b="1" lang="en-US" sz="5400" spc="-1" strike="noStrike">
                <a:solidFill>
                  <a:srgbClr val="fe0000"/>
                </a:solidFill>
                <a:latin typeface="Arial"/>
              </a:rPr>
              <a:t>thermometer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 is an instrument that is used to measure temperature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543800" y="1143000"/>
          <a:ext cx="10746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1143000"/>
                    <a:ext cx="10746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43000" y="762120"/>
            <a:ext cx="8001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The temperature of something tells us how hot or cold something is. 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981080" y="3505320"/>
            <a:ext cx="2171880" cy="2666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334120" y="3581280"/>
            <a:ext cx="1925640" cy="2590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18284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e0000"/>
                </a:solidFill>
                <a:latin typeface="Arial"/>
              </a:rPr>
              <a:t>Temperature</a:t>
            </a:r>
            <a:r>
              <a:rPr b="1" lang="en-US" sz="7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eaeaea"/>
                </a:solidFill>
                <a:latin typeface="Arial"/>
              </a:rPr>
              <a:t>is measured in </a:t>
            </a:r>
            <a:r>
              <a:rPr b="1" lang="en-US" sz="7200" spc="-1" strike="noStrike">
                <a:solidFill>
                  <a:srgbClr val="fe0000"/>
                </a:solidFill>
                <a:latin typeface="Arial"/>
              </a:rPr>
              <a:t>degrees</a:t>
            </a:r>
            <a:r>
              <a:rPr b="0" lang="en-US" sz="7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106632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is the symbol for  degrees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304812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96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518148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eaeaea"/>
                </a:solidFill>
                <a:latin typeface="Arial"/>
              </a:rPr>
              <a:t>100 Degrees”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10080" y="3048120"/>
            <a:ext cx="381240" cy="380880"/>
          </a:xfrm>
          <a:prstGeom prst="ellipse">
            <a:avLst/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57400" y="838080"/>
            <a:ext cx="380880" cy="381240"/>
          </a:xfrm>
          <a:prstGeom prst="ellipse">
            <a:avLst/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75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09480" y="685800"/>
            <a:ext cx="4191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Temperature is measured on two scales:  </a:t>
            </a:r>
            <a:r>
              <a:rPr b="1" lang="en-US" sz="5400" spc="-1" strike="noStrike">
                <a:solidFill>
                  <a:srgbClr val="fe0000"/>
                </a:solidFill>
                <a:latin typeface="Arial"/>
              </a:rPr>
              <a:t>Celsius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 and </a:t>
            </a:r>
            <a:r>
              <a:rPr b="1" lang="en-US" sz="5400" spc="-1" strike="noStrike">
                <a:solidFill>
                  <a:srgbClr val="fe0000"/>
                </a:solidFill>
                <a:latin typeface="Arial"/>
              </a:rPr>
              <a:t>Fahrenheit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4267080"/>
            <a:ext cx="1600200" cy="10670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248520" y="2286000"/>
            <a:ext cx="838080" cy="2209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248520" y="1371240"/>
            <a:ext cx="0" cy="29718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7086600" y="1371240"/>
            <a:ext cx="0" cy="29718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6248520" y="1523880"/>
            <a:ext cx="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48520" y="137160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2286000"/>
            <a:ext cx="1600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248520" y="259092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48520" y="289548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48520" y="320040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350532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380988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48520" y="411480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4380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98.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0060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3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57800" y="2057400"/>
            <a:ext cx="152280" cy="15228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05920" y="2133720"/>
            <a:ext cx="152280" cy="15228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2057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22096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8188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066680" y="3733920"/>
            <a:ext cx="701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C” is the symbol for the Celsius scale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86200" y="838080"/>
            <a:ext cx="1295280" cy="1557000"/>
            <a:chOff x="3886200" y="838080"/>
            <a:chExt cx="1295280" cy="1557000"/>
          </a:xfrm>
        </p:grpSpPr>
        <p:sp>
          <p:nvSpPr>
            <p:cNvPr id="160" name=""/>
            <p:cNvSpPr/>
            <p:nvPr/>
          </p:nvSpPr>
          <p:spPr>
            <a:xfrm>
              <a:off x="4191120" y="838080"/>
              <a:ext cx="990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9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86200" y="1066680"/>
              <a:ext cx="304920" cy="304560"/>
            </a:xfrm>
            <a:prstGeom prst="ellipse">
              <a:avLst/>
            </a:prstGeom>
            <a:noFill/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066680" y="380880"/>
            <a:ext cx="7010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The Fahrenheit scale is the most popular in the United States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533412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Its symbol is “F.”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886200" y="3549600"/>
            <a:ext cx="1371600" cy="1557000"/>
            <a:chOff x="3886200" y="3549600"/>
            <a:chExt cx="1371600" cy="1557000"/>
          </a:xfrm>
        </p:grpSpPr>
        <p:sp>
          <p:nvSpPr>
            <p:cNvPr id="165" name=""/>
            <p:cNvSpPr/>
            <p:nvPr/>
          </p:nvSpPr>
          <p:spPr>
            <a:xfrm>
              <a:off x="4267080" y="3549600"/>
              <a:ext cx="990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9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86200" y="3702240"/>
              <a:ext cx="304920" cy="304560"/>
            </a:xfrm>
            <a:prstGeom prst="ellipse">
              <a:avLst/>
            </a:prstGeom>
            <a:noFill/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90720" y="45720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aeaea"/>
                </a:solidFill>
                <a:latin typeface="Arial"/>
              </a:rPr>
              <a:t>Let’s count by 2’s…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29718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2, 4, 6, 8, 10, 12…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8T17:14:20Z</dcterms:created>
  <dc:creator>dses</dc:creator>
  <dc:description/>
  <dc:language>en-US</dc:language>
  <cp:lastModifiedBy>cccti</cp:lastModifiedBy>
  <dcterms:modified xsi:type="dcterms:W3CDTF">2003-09-04T19:23:08Z</dcterms:modified>
  <cp:revision>19</cp:revision>
  <dc:subject/>
  <dc:title>PowerPoint Presentation</dc:title>
</cp:coreProperties>
</file>