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7EB-41C2-44F6-8433-6804004C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196C-74B2-4540-A909-592262A5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A342-819E-49C6-AA05-0CD504C5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1589-89DD-46FF-BF9F-3D8747C4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9CB6-1A81-4A2D-927A-E016B0FA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B384-EEE5-4A3B-815B-9441E3AB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08DF-39B3-4A3F-ABEA-A112451E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F350-298B-4D13-8372-2CCF0EF2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B1E-76D5-4120-9781-438253A1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50C8-CD68-482D-A87C-B888A8EA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5543-6D8A-4A51-A8F2-E5B2EABB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B451-2DBF-440D-B5C1-441F2B32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114B-8168-4598-85B3-BCB88BF439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4495680"/>
            <a:ext cx="2286000" cy="1976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1" action="ppaction://hlinksldjump"/>
              </a:rPr>
              <a:t>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00400" y="4495680"/>
            <a:ext cx="2286000" cy="1976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2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4495680"/>
            <a:ext cx="2286000" cy="1976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3" action="ppaction://hlinksldjump"/>
              </a:rPr>
              <a:t>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2362320"/>
            <a:ext cx="2286000" cy="1976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4" action="ppaction://hlinksldjump"/>
              </a:rPr>
              <a:t>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2367000"/>
            <a:ext cx="2286000" cy="1976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5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228600"/>
            <a:ext cx="2286000" cy="1976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6" action="ppaction://hlinksldjump"/>
              </a:rPr>
              <a:t>$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5720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$10,0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304920"/>
            <a:ext cx="36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ksgiving Pyrami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38080" y="457200"/>
            <a:ext cx="7543800" cy="5715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3268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2819520"/>
            <a:ext cx="3352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eople who sailed to America from Engla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457200"/>
            <a:ext cx="7543800" cy="5715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3268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289548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eople who helped the Pilgri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43000" y="685800"/>
            <a:ext cx="7162920" cy="54100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3268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2743200"/>
            <a:ext cx="28954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 enjoy or use something togeth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457200"/>
            <a:ext cx="7543800" cy="5715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3268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2895480"/>
            <a:ext cx="3505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ood made of crushed bread, onions, and spi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457200"/>
            <a:ext cx="7543800" cy="5715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3268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2819520"/>
            <a:ext cx="403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cking vegetabl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4495680"/>
            <a:ext cx="2286000" cy="1976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1" action="ppaction://hlinksldjump"/>
              </a:rPr>
              <a:t>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4495680"/>
            <a:ext cx="2286000" cy="1976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2" action="ppaction://hlinksldjump"/>
              </a:rPr>
              <a:t>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7280" y="4495680"/>
            <a:ext cx="2286000" cy="1976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3" action="ppaction://hlinksldjump"/>
              </a:rPr>
              <a:t>$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362320"/>
            <a:ext cx="2286000" cy="1976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4" action="ppaction://hlinksldjump"/>
              </a:rPr>
              <a:t>$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2367000"/>
            <a:ext cx="2286000" cy="1976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5" action="ppaction://hlinksldjump"/>
              </a:rPr>
              <a:t>$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8600"/>
            <a:ext cx="2286000" cy="1976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  <a:hlinkClick r:id="rId6" action="ppaction://hlinksldjump"/>
              </a:rPr>
              <a:t>$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45720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$25,0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457200"/>
            <a:ext cx="36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ksgiving Pyrami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380880"/>
            <a:ext cx="7543800" cy="5715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3268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666880"/>
            <a:ext cx="3657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oliday celebrated on the fourth Thursday in Novemb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6858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457200"/>
            <a:ext cx="7543800" cy="5715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3268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743200"/>
            <a:ext cx="3504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large bird eaten on Thanksgiving D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533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457200"/>
            <a:ext cx="7543800" cy="5715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3268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2971800"/>
            <a:ext cx="3352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 very large bo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4572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38080" y="457200"/>
            <a:ext cx="7543800" cy="5715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3268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312408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weet potato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533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457200"/>
            <a:ext cx="7543800" cy="5715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3268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95480" y="312408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 very large mea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838080" y="457200"/>
            <a:ext cx="7543800" cy="5715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3268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2819520"/>
            <a:ext cx="327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o kill an animal for foo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8080" y="457200"/>
            <a:ext cx="7543800" cy="57150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3268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743200" y="3048120"/>
            <a:ext cx="373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o say “Thank You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15:36:08Z</dcterms:created>
  <dc:creator>DSES</dc:creator>
  <dc:description/>
  <dc:language>en-US</dc:language>
  <cp:lastModifiedBy>cccti</cp:lastModifiedBy>
  <dcterms:modified xsi:type="dcterms:W3CDTF">2003-09-16T19:57:38Z</dcterms:modified>
  <cp:revision>15</cp:revision>
  <dc:subject/>
  <dc:title>PowerPoint Presentation</dc:title>
</cp:coreProperties>
</file>