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F3F-DCA8-4B62-BF81-14A03317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723-09D1-4212-BFCF-A562784E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025-5912-4D48-99C9-1865901E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D38-DEDF-4107-B8D2-10DF8ECD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1550-C423-4A73-8647-CA423707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6A2-B41B-48C3-B6FA-1457C4D8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A9CB-4FB7-4FB6-B35B-B51857C4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D2DE-CDEC-4D76-9083-85CE1108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4F91-EB39-4958-9513-0C638982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7266-F2AC-42B6-95B0-8188CCA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DCB9-F390-4F3A-BA93-7AED755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7E3-5B63-4AD5-B9BD-BB8F0301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99D-FFF1-4CA8-BF1F-23872FF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8A1-AEFD-4865-86B9-6A4C651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646-C5B5-45D3-8B39-179A5B99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961F-B9D4-4037-94D8-90A53F41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6EC-509B-4DD3-87CF-35CD0E7D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D04-120C-4AFE-B83C-44B55EF3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78B-6353-407A-BA02-40546417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D3F-7EA5-4AA2-8F79-A9855001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FE0-6100-4D19-B348-BBA601FE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D2C-E511-4F67-B5AB-53FD000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62F-14FC-4EAC-BE3E-2B6A563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F16-7829-4EFA-95CF-8F3428E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1B67-7292-4306-9AE9-8959818368B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6366-7B7B-45A8-8305-25FF7393FF4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124080" y="944640"/>
            <a:ext cx="5486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8080c"/>
                </a:solidFill>
                <a:latin typeface="Times New Roman"/>
              </a:rPr>
              <a:t>How to Start and Shut Down a Computer</a:t>
            </a:r>
            <a:endParaRPr b="0" lang="en-US" sz="8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9" name="bs00094_" descr=""/>
          <p:cNvPicPr/>
          <p:nvPr/>
        </p:nvPicPr>
        <p:blipFill>
          <a:blip r:embed="rId1"/>
          <a:stretch/>
        </p:blipFill>
        <p:spPr>
          <a:xfrm>
            <a:off x="533520" y="1693800"/>
            <a:ext cx="2842920" cy="34686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523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j0079272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5943600" cy="41637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04920" y="609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c"/>
                </a:solidFill>
                <a:latin typeface="Times New Roman"/>
              </a:rPr>
              <a:t>To start the computer, press the start button on the CPU tower.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6857640" y="4800600"/>
            <a:ext cx="1066680" cy="5335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934320" y="4191120"/>
            <a:ext cx="1218960" cy="533160"/>
          </a:xfrm>
          <a:prstGeom prst="rect">
            <a:avLst/>
          </a:prstGeom>
          <a:solidFill>
            <a:srgbClr val="dddddd"/>
          </a:solidFill>
          <a:ln w="2844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886200"/>
            <a:ext cx="77724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5335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c"/>
                </a:solidFill>
                <a:latin typeface="Times New Roman"/>
              </a:rPr>
              <a:t>Wait while the computer boots.  When it is finished booting, it will show a dialogue box that will ask for a username and password: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276720"/>
            <a:ext cx="77724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3429000"/>
            <a:ext cx="25909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Enter Passwor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7120" y="33526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3352680"/>
            <a:ext cx="457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3352680"/>
            <a:ext cx="439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3352680"/>
            <a:ext cx="439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3" name="j0197446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27200" cy="819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057400" y="4343400"/>
            <a:ext cx="190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User Na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57400" y="4876920"/>
            <a:ext cx="2133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Passwor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343400"/>
            <a:ext cx="2666880" cy="3808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4267080"/>
            <a:ext cx="9144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O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10280" y="4952880"/>
            <a:ext cx="129564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Canc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4800600"/>
            <a:ext cx="2666880" cy="3808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3886200"/>
            <a:ext cx="7772400" cy="259092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3276720"/>
            <a:ext cx="777240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2" name="j0197446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727200" cy="819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10280" y="4952880"/>
            <a:ext cx="129564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Canc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4267080"/>
            <a:ext cx="9144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O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4343400"/>
            <a:ext cx="19051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User Na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4876920"/>
            <a:ext cx="2133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Passwor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352680"/>
            <a:ext cx="439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3352680"/>
            <a:ext cx="439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86200" y="4343400"/>
            <a:ext cx="2666880" cy="3808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800600"/>
            <a:ext cx="2666880" cy="3808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3429000"/>
            <a:ext cx="259092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Enter Password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533520"/>
            <a:ext cx="7162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c"/>
                </a:solidFill>
                <a:latin typeface="Times New Roman"/>
              </a:rPr>
              <a:t>Enter your user name and password</a:t>
            </a:r>
            <a:r>
              <a:rPr b="0" lang="en-US" sz="3600" spc="-1" strike="noStrike">
                <a:solidFill>
                  <a:srgbClr val="08080c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8080c"/>
                </a:solidFill>
                <a:latin typeface="Times New Roman"/>
              </a:rPr>
              <a:t>then click “OK.”</a:t>
            </a:r>
            <a:r>
              <a:rPr b="0" lang="en-US" sz="3600" spc="-1" strike="noStrike">
                <a:solidFill>
                  <a:srgbClr val="08080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8080c"/>
                </a:solidFill>
                <a:latin typeface="Times New Roman"/>
              </a:rPr>
              <a:t>(Because your password is a secret, only “*” will be shown on the screen.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c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c"/>
                </a:solidFill>
                <a:latin typeface="Times New Roman"/>
              </a:rPr>
              <a:t>*********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6060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581280" y="1676520"/>
            <a:ext cx="2667240" cy="2837160"/>
          </a:xfrm>
          <a:prstGeom prst="rect">
            <a:avLst/>
          </a:prstGeom>
          <a:solidFill>
            <a:srgbClr val="b9b9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c"/>
                </a:solidFill>
                <a:latin typeface="Arial Unicode MS"/>
              </a:rPr>
              <a:t>Your computer is now ready to use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3520" y="3808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c"/>
                </a:solidFill>
                <a:latin typeface="Times New Roman"/>
              </a:rPr>
              <a:t>To shut down your computer, click “Start” on the main menu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1905120"/>
            <a:ext cx="6553080" cy="4647960"/>
          </a:xfrm>
          <a:prstGeom prst="rect">
            <a:avLst/>
          </a:prstGeom>
          <a:solidFill>
            <a:srgbClr val="0099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743200" y="3048120"/>
          <a:ext cx="266688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26668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685800" y="3352680"/>
          <a:ext cx="2638440" cy="9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352680"/>
                    <a:ext cx="26384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3" name="j0197446" descr=""/>
          <p:cNvPicPr/>
          <p:nvPr/>
        </p:nvPicPr>
        <p:blipFill>
          <a:blip r:embed="rId5"/>
          <a:stretch/>
        </p:blipFill>
        <p:spPr>
          <a:xfrm>
            <a:off x="1600200" y="2057400"/>
            <a:ext cx="795240" cy="895320"/>
          </a:xfrm>
          <a:prstGeom prst="rect">
            <a:avLst/>
          </a:prstGeom>
          <a:ln w="0">
            <a:noFill/>
          </a:ln>
        </p:spPr>
      </p:pic>
      <p:pic>
        <p:nvPicPr>
          <p:cNvPr id="424" name="j0299543" descr=""/>
          <p:cNvPicPr/>
          <p:nvPr/>
        </p:nvPicPr>
        <p:blipFill>
          <a:blip r:embed="rId6"/>
          <a:stretch/>
        </p:blipFill>
        <p:spPr>
          <a:xfrm>
            <a:off x="1523880" y="4419720"/>
            <a:ext cx="873360" cy="99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743200" y="2057400"/>
          <a:ext cx="2695680" cy="11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057400"/>
                    <a:ext cx="26956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743200" y="4267080"/>
          <a:ext cx="2514600" cy="105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267080"/>
                    <a:ext cx="251460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1295280" y="5867280"/>
            <a:ext cx="1524240" cy="685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6019920"/>
            <a:ext cx="10670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 Unicode MS"/>
              </a:rPr>
              <a:t>Star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1" name="bd10263_" descr=""/>
          <p:cNvPicPr/>
          <p:nvPr/>
        </p:nvPicPr>
        <p:blipFill>
          <a:blip r:embed="rId11"/>
          <a:stretch/>
        </p:blipFill>
        <p:spPr>
          <a:xfrm>
            <a:off x="12952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371600" y="5410080"/>
            <a:ext cx="144792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c"/>
                </a:solidFill>
                <a:latin typeface="Arial Unicode MS"/>
              </a:rPr>
              <a:t>Recycle Bin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2971800"/>
            <a:ext cx="1447920" cy="58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c"/>
                </a:solidFill>
                <a:latin typeface="Arial Unicode MS"/>
              </a:rPr>
              <a:t>My Computer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5867280"/>
            <a:ext cx="762120" cy="4572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19320" y="5867280"/>
            <a:ext cx="1371600" cy="685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19320" y="1752480"/>
            <a:ext cx="6553080" cy="4800600"/>
          </a:xfrm>
          <a:prstGeom prst="rect">
            <a:avLst/>
          </a:prstGeom>
          <a:solidFill>
            <a:srgbClr val="0099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9524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743200" y="1828800"/>
          <a:ext cx="269568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828800"/>
                    <a:ext cx="26956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2819520" y="2743200"/>
          <a:ext cx="2666880" cy="12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2743200"/>
                    <a:ext cx="26668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2743200" y="4038480"/>
          <a:ext cx="2514600" cy="105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4038480"/>
                    <a:ext cx="251460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4" name="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600200" y="51814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219320" y="2743200"/>
            <a:ext cx="2133360" cy="3962520"/>
            <a:chOff x="1219320" y="2743200"/>
            <a:chExt cx="2133360" cy="3962520"/>
          </a:xfrm>
        </p:grpSpPr>
        <p:sp>
          <p:nvSpPr>
            <p:cNvPr id="447" name=""/>
            <p:cNvSpPr/>
            <p:nvPr/>
          </p:nvSpPr>
          <p:spPr>
            <a:xfrm>
              <a:off x="1219320" y="2743200"/>
              <a:ext cx="2133360" cy="3276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71600" y="6019920"/>
              <a:ext cx="1371600" cy="6858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00200" y="2895480"/>
              <a:ext cx="1523880" cy="2577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Programs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Favorites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Documents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Settings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Help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Run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Log Off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Arial Unicode MS"/>
                </a:rPr>
                <a:t>Suspend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5486400"/>
              <a:ext cx="1447560" cy="3682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c"/>
                  </a:solidFill>
                  <a:latin typeface="Times New Roman"/>
                </a:rPr>
                <a:t>Shut dow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28800" y="6248520"/>
              <a:ext cx="83808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 Unicode MS"/>
                </a:rPr>
                <a:t>Star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447920" y="4572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c"/>
                </a:solidFill>
                <a:latin typeface="Times New Roman"/>
              </a:rPr>
              <a:t>Highlight and click on       “Shut Down”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33520" y="457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c"/>
                </a:solidFill>
                <a:latin typeface="Times New Roman"/>
              </a:rPr>
              <a:t>You will see a gray dialogue box. Click “Shut Down,” then click “OK.”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752480"/>
            <a:ext cx="6553080" cy="4800600"/>
          </a:xfrm>
          <a:prstGeom prst="rect">
            <a:avLst/>
          </a:prstGeom>
          <a:solidFill>
            <a:srgbClr val="0099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819520" y="2743200"/>
          <a:ext cx="266688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6668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85800" y="3276720"/>
          <a:ext cx="2638440" cy="97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276720"/>
                    <a:ext cx="263844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9" name="j0197446" descr=""/>
          <p:cNvPicPr/>
          <p:nvPr/>
        </p:nvPicPr>
        <p:blipFill>
          <a:blip r:embed="rId5"/>
          <a:stretch/>
        </p:blipFill>
        <p:spPr>
          <a:xfrm>
            <a:off x="1600200" y="1828800"/>
            <a:ext cx="795240" cy="895320"/>
          </a:xfrm>
          <a:prstGeom prst="rect">
            <a:avLst/>
          </a:prstGeom>
          <a:ln w="0">
            <a:noFill/>
          </a:ln>
        </p:spPr>
      </p:pic>
      <p:pic>
        <p:nvPicPr>
          <p:cNvPr id="460" name="j0299543" descr=""/>
          <p:cNvPicPr/>
          <p:nvPr/>
        </p:nvPicPr>
        <p:blipFill>
          <a:blip r:embed="rId6"/>
          <a:stretch/>
        </p:blipFill>
        <p:spPr>
          <a:xfrm>
            <a:off x="1523880" y="4267080"/>
            <a:ext cx="873360" cy="99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"/>
          <p:cNvGraphicFramePr/>
          <p:nvPr/>
        </p:nvGraphicFramePr>
        <p:xfrm>
          <a:off x="2743200" y="1828800"/>
          <a:ext cx="2695680" cy="11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828800"/>
                    <a:ext cx="26956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2743200" y="4038480"/>
          <a:ext cx="2514600" cy="105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251460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219320" y="5867280"/>
            <a:ext cx="1371600" cy="685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6019920"/>
            <a:ext cx="9144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 Unicode MS"/>
              </a:rPr>
              <a:t>Star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67" name="bd10263_" descr=""/>
          <p:cNvPicPr/>
          <p:nvPr/>
        </p:nvPicPr>
        <p:blipFill>
          <a:blip r:embed="rId11"/>
          <a:stretch/>
        </p:blipFill>
        <p:spPr>
          <a:xfrm>
            <a:off x="129528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371600" y="5334120"/>
            <a:ext cx="1447920" cy="337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 Unicode MS"/>
              </a:rPr>
              <a:t>Recycle Bin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819520"/>
            <a:ext cx="1447920" cy="58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 Unicode MS"/>
              </a:rPr>
              <a:t>My Computer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2480" y="3276720"/>
            <a:ext cx="563904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2819520"/>
            <a:ext cx="5639040" cy="457200"/>
          </a:xfrm>
          <a:prstGeom prst="rect">
            <a:avLst/>
          </a:prstGeom>
          <a:solidFill>
            <a:srgbClr val="6699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2895480"/>
            <a:ext cx="28954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c"/>
                </a:solidFill>
                <a:latin typeface="Arial Unicode MS"/>
              </a:rPr>
              <a:t>Shut Down Window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2819520"/>
            <a:ext cx="4572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 Unicode MS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4" name="j0197446" descr=""/>
          <p:cNvPicPr/>
          <p:nvPr/>
        </p:nvPicPr>
        <p:blipFill>
          <a:blip r:embed="rId12"/>
          <a:stretch/>
        </p:blipFill>
        <p:spPr>
          <a:xfrm>
            <a:off x="2057400" y="3352680"/>
            <a:ext cx="658800" cy="7430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743200" y="3429000"/>
            <a:ext cx="4267080" cy="1894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What do you want the computer  to do?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c"/>
                </a:solidFill>
                <a:latin typeface="Arial Unicode MS"/>
              </a:rPr>
              <a:t>	</a:t>
            </a:r>
            <a:r>
              <a:rPr b="0" lang="en-US" sz="1800" spc="-1" strike="noStrike" u="sng">
                <a:solidFill>
                  <a:srgbClr val="08080c"/>
                </a:solidFill>
                <a:uFillTx/>
                <a:latin typeface="Arial Unicode MS"/>
              </a:rPr>
              <a:t>S</a:t>
            </a: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hut Dow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	</a:t>
            </a:r>
            <a:r>
              <a:rPr b="0" lang="en-US" sz="1800" spc="-1" strike="noStrike" u="sng">
                <a:solidFill>
                  <a:srgbClr val="08080c"/>
                </a:solidFill>
                <a:uFillTx/>
                <a:latin typeface="Arial Unicode MS"/>
              </a:rPr>
              <a:t>R</a:t>
            </a: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e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8080c"/>
                </a:solidFill>
                <a:latin typeface="Arial Unicode MS"/>
              </a:rPr>
              <a:t>Restart in MS-DOS mod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5410080"/>
            <a:ext cx="9144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O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410080"/>
            <a:ext cx="129528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Canc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5410080"/>
            <a:ext cx="9144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c"/>
                </a:solidFill>
                <a:latin typeface="Arial Unicode MS"/>
              </a:rPr>
              <a:t>Hel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52680" y="4724280"/>
            <a:ext cx="152640" cy="152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038320" y="474840"/>
            <a:ext cx="5048280" cy="60782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743200" y="1295280"/>
            <a:ext cx="2819520" cy="3671640"/>
          </a:xfrm>
          <a:prstGeom prst="rect">
            <a:avLst/>
          </a:prstGeom>
          <a:solidFill>
            <a:srgbClr val="fff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c"/>
                </a:solidFill>
                <a:latin typeface="Arial Unicode MS"/>
              </a:rPr>
              <a:t>Please wait while your computer shuts down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5238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12:38:19Z</dcterms:created>
  <dc:creator>DSES</dc:creator>
  <dc:description/>
  <dc:language>en-US</dc:language>
  <cp:lastModifiedBy>cccti</cp:lastModifiedBy>
  <dcterms:modified xsi:type="dcterms:W3CDTF">2003-09-04T19:08:20Z</dcterms:modified>
  <cp:revision>24</cp:revision>
  <dc:subject/>
  <dc:title>PowerPoint Presentation</dc:title>
</cp:coreProperties>
</file>