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0822-F744-4F95-BE35-74706EDA7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F51B-287A-4D45-A481-1F0C5491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EAFF-83C9-4B2B-902E-9D3E238AC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E929-B65A-4B94-AA24-B1FEE2BDB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7AE7-DEA7-4C41-BA05-FD95BB30C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3B77-D587-4548-96FC-4D8CB103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8BAA-2DC8-47BA-9131-C68ED6AA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B67C-DF26-4D43-9FC6-95C8C0D6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1BF7-A89B-47A9-A350-76F80C8F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8C29-978B-43CA-824F-CF4116A7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3C33F-A65B-46CB-9CA6-20402346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F904-75CC-444D-88A7-DEB19B9B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FAC2-C47F-4A02-8BC6-FFB6A6A4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2FFE-CE20-4AD4-AC3E-6D8C77B0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0D10-D26C-4A4F-854B-5C9266B8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6E0E-CFEA-4E90-9977-8DBB32E68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9FCA-0469-4C03-B5CA-AAEA1C49B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DB16-30A9-4F83-AE7F-BDB629F2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0FC5-4DF2-4E19-B8C8-7ECECED4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0E7D-CCD5-48A6-B845-CD857C56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282D-DDE7-4E88-9905-FC48F52B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D582-F72C-437A-98BC-A413D906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0D65-3EC4-4295-B02D-3077ECC6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64E5-E13A-46BC-9C18-167692BA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78F5-5751-40DA-B4C6-2651BB58E4F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8915-1B1E-476C-A5DD-D01184443BE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9900cc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moticon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38080" y="304812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cc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The writer is winking.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54100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Times New Roman"/>
              </a:rPr>
              <a:t>;-)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The writer is crying.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56386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Times New Roman"/>
              </a:rPr>
              <a:t>:_(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The writer is wearing glasses.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60958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Times New Roman"/>
              </a:rPr>
              <a:t>8-)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The writer is wearing a walkman.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5943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Times New Roman"/>
              </a:rPr>
              <a:t>[:-)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How do I use them in an e-mail?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52480" y="2476440"/>
            <a:ext cx="594360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Questions?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What are emoticons?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oticons, which are sometimes called “smileys”, are characters you type on your keyboard that represent various emotion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used when writing e-mails to help with understanding since facial expressions are absent in on-line commun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ation of the words “emotion” and “icon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" dur="1" fill="hold"/>
                                  <p:tgtEl>
                                    <p:spTgt spid="9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When do I use emoticons?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oticons are often used in e-mail messages and in chat ro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105520" y="3352680"/>
            <a:ext cx="2666880" cy="21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So……..what does an emoticon look like?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Arial"/>
              </a:rPr>
              <a:t>:-)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You have to turn your head sideways to see an emoticon.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Arial"/>
              </a:rPr>
              <a:t>:-)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 rot="5400000">
            <a:off x="4048200" y="2637720"/>
            <a:ext cx="3924360" cy="31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Arial"/>
              </a:rPr>
              <a:t>:-)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What keys do I use to make an emoticon?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on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mi-col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sh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enthesi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 and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pital 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er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3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3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3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3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3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3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" dur="1" fill="hold"/>
                                  <p:tgtEl>
                                    <p:spTgt spid="10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Examples of emoticons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literally hundreds of emotic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are used frequen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s are used infrequently depending on the us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make up your own.  There are no rul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5" dur="1" fill="hold"/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The writer is amazed. 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5715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Times New Roman"/>
              </a:rPr>
              <a:t>:-o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1" lang="en-US" sz="60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The writer is sad.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53341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Times New Roman"/>
              </a:rPr>
              <a:t>:-(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5T18:49:16Z</dcterms:created>
  <dc:creator>Melinda M. Hefner</dc:creator>
  <dc:description/>
  <dc:language>en-US</dc:language>
  <cp:lastModifiedBy>cccti</cp:lastModifiedBy>
  <dcterms:modified xsi:type="dcterms:W3CDTF">2003-09-04T16:53:22Z</dcterms:modified>
  <cp:revision>8</cp:revision>
  <dc:subject/>
  <dc:title>Emoticons </dc:title>
</cp:coreProperties>
</file>