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21.jpeg" ContentType="image/jpeg"/>
  <Override PartName="/ppt/media/image19.jpeg" ContentType="image/jpeg"/>
  <Override PartName="/ppt/media/image18.wmf" ContentType="image/x-wmf"/>
  <Override PartName="/ppt/media/image17.wmf" ContentType="image/x-wmf"/>
  <Override PartName="/ppt/media/image7.wmf" ContentType="image/x-wmf"/>
  <Override PartName="/ppt/media/image20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2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B8D8-013A-49AF-B7D6-FF984730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E63-1E38-4871-A5A3-50BD9E3A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0369-099F-467D-8E85-A5CEB0CB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99A6-F7B0-4DF4-BB15-8AE824EC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173E-67AD-4A73-9BB6-22BDEF9D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807C-0F96-400B-AEDA-01416B7C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C5D6-624E-4510-9ADA-3D6184C0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4DCA-934D-4881-9261-5C8254C2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648A-9A5A-4998-91CD-47122295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7046-D389-4C40-BF28-6FCFA5CE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F2B2-9ABD-40E2-8F1E-3884CA96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6D2-AB5C-45F1-A38C-8A8E606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BD3F-7009-47E4-815B-FF199FBF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CADC-3166-4445-9FA9-F45C07A6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6282-3237-460A-B859-FEDF844D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3DD6-E7EA-4F21-A5E5-3A0C3C86D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49D0-B201-48A9-999A-B5005E89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BE2-73A6-4BC6-B284-AA135275A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461-4242-488D-8BA5-211E6323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A01-0EC0-46B1-826F-1CFD75F1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54B-413D-4D85-A8F8-C3928F349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E85F-065A-4FEB-90CF-4F6C974B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567-CF24-468B-A5D7-58D6C1BE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02C4-E520-4FB1-B3E6-5DDBC4E2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30D43-FE7F-4BF3-9163-B626042E619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755E1-7267-487E-846D-8DD685CFCB8A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3520" y="12193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School Vocabulary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2286000"/>
            <a:ext cx="525780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657600" cy="1979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762120" y="2209680"/>
            <a:ext cx="3733560" cy="33148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us driver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066680" y="1066680"/>
            <a:ext cx="7010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7200" spc="-1" strike="noStrike">
                <a:solidFill>
                  <a:srgbClr val="545472"/>
                </a:solidFill>
                <a:latin typeface="Times New Roman"/>
              </a:rPr>
              <a:t>bus driver</a:t>
            </a: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 picks up students and takes them home on the bus.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4724640" cy="40114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cafeteria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76520" y="685800"/>
            <a:ext cx="5715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Students eat breakfast and lunch in the </a:t>
            </a:r>
            <a:r>
              <a:rPr b="1" lang="en-US" sz="8000" spc="-1" strike="noStrike">
                <a:solidFill>
                  <a:srgbClr val="545472"/>
                </a:solidFill>
                <a:latin typeface="Times New Roman"/>
              </a:rPr>
              <a:t>cafeteria</a:t>
            </a: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14480" y="2209680"/>
            <a:ext cx="249084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gym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876920" y="2286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52480" y="914400"/>
            <a:ext cx="5334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gym</a:t>
            </a: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 is where students take Physical Education class.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1523880" y="1828800"/>
          <a:ext cx="6095880" cy="419580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ath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ading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cienc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hysical Education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havio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imes New Roman"/>
              </a:rPr>
              <a:t>report card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371600" y="762120"/>
            <a:ext cx="64771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A </a:t>
            </a: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report card</a:t>
            </a: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 gives </a:t>
            </a: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grades</a:t>
            </a: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 for each </a:t>
            </a:r>
            <a:r>
              <a:rPr b="1" lang="en-US" sz="6600" spc="-1" strike="noStrike">
                <a:solidFill>
                  <a:srgbClr val="545472"/>
                </a:solidFill>
                <a:latin typeface="Times New Roman"/>
              </a:rPr>
              <a:t>subject</a:t>
            </a:r>
            <a:r>
              <a:rPr b="0" lang="en-US" sz="6600" spc="-1" strike="noStrike">
                <a:solidFill>
                  <a:srgbClr val="545472"/>
                </a:solidFill>
                <a:latin typeface="Times New Roman"/>
              </a:rPr>
              <a:t> and tells how the student is doing.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4419720" cy="216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conference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733920" cy="2512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70102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imes New Roman"/>
              </a:rPr>
              <a:t>Sometimes parents and teachers have a </a:t>
            </a:r>
            <a:r>
              <a:rPr b="1" lang="en-US" sz="6000" spc="-1" strike="noStrike">
                <a:solidFill>
                  <a:srgbClr val="545472"/>
                </a:solidFill>
                <a:latin typeface="Times New Roman"/>
              </a:rPr>
              <a:t>conference</a:t>
            </a:r>
            <a:r>
              <a:rPr b="0" lang="en-US" sz="6000" spc="-1" strike="noStrike">
                <a:solidFill>
                  <a:srgbClr val="545472"/>
                </a:solidFill>
                <a:latin typeface="Times New Roman"/>
              </a:rPr>
              <a:t> to discuss how the student is doing in school.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724280" cy="3584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teacher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867280" y="2362320"/>
            <a:ext cx="280044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19520" y="76212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imes New Roman"/>
              </a:rPr>
              <a:t>field trips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3520" y="2335320"/>
            <a:ext cx="4419360" cy="29224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867280" y="1979640"/>
            <a:ext cx="2819520" cy="190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5410080" y="4191120"/>
            <a:ext cx="2819520" cy="1888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9144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Students love </a:t>
            </a:r>
            <a:r>
              <a:rPr b="1" lang="en-US" sz="7200" spc="-1" strike="noStrike">
                <a:solidFill>
                  <a:srgbClr val="545472"/>
                </a:solidFill>
                <a:latin typeface="Times New Roman"/>
              </a:rPr>
              <a:t>field trips</a:t>
            </a: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 to museums, science centers, libraries, and parks.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914400"/>
            <a:ext cx="792468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School is fun, but students have to follow the 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rules</a:t>
            </a: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o not run in the halls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Do not talk without permission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Listen to your teacher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54547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Be on time to school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080" y="1447920"/>
            <a:ext cx="7239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8000" spc="-1" strike="noStrike">
                <a:solidFill>
                  <a:srgbClr val="545472"/>
                </a:solidFill>
                <a:latin typeface="Times New Roman"/>
              </a:rPr>
              <a:t>teacher</a:t>
            </a: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 plans lessons and teaches students.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14400" y="9144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7200" spc="-1" strike="noStrike">
                <a:solidFill>
                  <a:srgbClr val="545472"/>
                </a:solidFill>
                <a:latin typeface="Times New Roman"/>
              </a:rPr>
              <a:t>teacher</a:t>
            </a:r>
            <a:r>
              <a:rPr b="0" lang="en-US" sz="7200" spc="-1" strike="noStrike" u="sng">
                <a:solidFill>
                  <a:srgbClr val="545472"/>
                </a:solidFill>
                <a:uFillTx/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545472"/>
                </a:solidFill>
                <a:latin typeface="Times New Roman"/>
              </a:rPr>
              <a:t>assistant</a:t>
            </a: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 helps the teacher in the classroom.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1295280"/>
            <a:ext cx="754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8000" spc="-1" strike="noStrike">
                <a:solidFill>
                  <a:srgbClr val="545472"/>
                </a:solidFill>
                <a:latin typeface="Times New Roman"/>
              </a:rPr>
              <a:t>principal</a:t>
            </a: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 is in charge of the school.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209680" y="1763640"/>
            <a:ext cx="4648320" cy="42562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counselor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990720"/>
            <a:ext cx="777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8000" spc="-1" strike="noStrike">
                <a:solidFill>
                  <a:srgbClr val="545472"/>
                </a:solidFill>
                <a:latin typeface="Times New Roman"/>
              </a:rPr>
              <a:t>counselor</a:t>
            </a:r>
            <a:r>
              <a:rPr b="0" lang="en-US" sz="8000" spc="-1" strike="noStrike">
                <a:solidFill>
                  <a:srgbClr val="545472"/>
                </a:solidFill>
                <a:latin typeface="Times New Roman"/>
              </a:rPr>
              <a:t> helps students with their problems.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nurse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648320" y="3124080"/>
            <a:ext cx="3962160" cy="262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5800" y="2057400"/>
            <a:ext cx="3429000" cy="2903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533520"/>
            <a:ext cx="761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The </a:t>
            </a:r>
            <a:r>
              <a:rPr b="1" lang="en-US" sz="7200" spc="-1" strike="noStrike">
                <a:solidFill>
                  <a:srgbClr val="545472"/>
                </a:solidFill>
                <a:latin typeface="Times New Roman"/>
              </a:rPr>
              <a:t>school nurse</a:t>
            </a:r>
            <a:r>
              <a:rPr b="0" lang="en-US" sz="7200" spc="-1" strike="noStrike">
                <a:solidFill>
                  <a:srgbClr val="545472"/>
                </a:solidFill>
                <a:latin typeface="Times New Roman"/>
              </a:rPr>
              <a:t> visits the school once per week to check on sick students.</a:t>
            </a:r>
            <a:endParaRPr b="0" lang="en-US" sz="7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16:10:36Z</dcterms:created>
  <dc:creator>DSES</dc:creator>
  <dc:description/>
  <dc:language>en-US</dc:language>
  <cp:lastModifiedBy>susan</cp:lastModifiedBy>
  <dcterms:modified xsi:type="dcterms:W3CDTF">2003-12-12T20:15:50Z</dcterms:modified>
  <cp:revision>16</cp:revision>
  <dc:subject/>
  <dc:title>PowerPoint Presentation</dc:title>
</cp:coreProperties>
</file>