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A44B-BF5E-47E4-96FA-12DF26C3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137F-65A7-4E63-83B0-BCCEE7773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C1D3D-9805-4D1D-91D8-F14CC1454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9FB0-09FF-4735-AC08-56C29FAEC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0F088-99B4-4804-9DB7-EBCD1051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34C82-9328-405F-9139-D8507EB7E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7D479-53B3-4042-A953-B05CA4377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A745-064F-4182-8229-317406F49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9613-1565-4D74-9313-D2BADC588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8D1A-3CDA-427D-AE18-42486557D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EBCB-CD12-46E0-885C-5069D07DC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811C-0C42-4821-A1FD-276C82505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5A3C-CF52-4EFB-A5B5-ECCA43F5ED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2651040"/>
            <a:ext cx="7010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Times New Roman"/>
              </a:rPr>
              <a:t>Safety Signs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rcRect l="3716" t="0" r="0" b="22236"/>
          <a:stretch/>
        </p:blipFill>
        <p:spPr>
          <a:xfrm>
            <a:off x="304920" y="380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2"/>
          <a:srcRect l="10707" t="10719" r="24292" b="39291"/>
          <a:stretch/>
        </p:blipFill>
        <p:spPr>
          <a:xfrm>
            <a:off x="7115040" y="4724280"/>
            <a:ext cx="1571760" cy="18288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457200" y="4038480"/>
            <a:ext cx="1558800" cy="25146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4"/>
          <a:stretch/>
        </p:blipFill>
        <p:spPr>
          <a:xfrm>
            <a:off x="6477120" y="22860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5334120" y="48564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chool Cross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952880" y="36576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low down and watch for school childre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00"/>
                            </p:stCondLst>
                            <p:childTnLst>
                              <p:par>
                                <p:cTn id="1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410080" y="45720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Bicycle Cross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952880" y="36576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atch out for people riding bicy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914400" y="685800"/>
            <a:ext cx="3657600" cy="548640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5334120" y="609480"/>
            <a:ext cx="3429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Pedestrian Crossing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952880" y="3657600"/>
            <a:ext cx="3810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atch out for people walking across the high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0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000"/>
                            </p:stCondLst>
                            <p:childTnLst>
                              <p:par>
                                <p:cTn id="1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9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57800" y="45720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lippery When Wet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952880" y="3838680"/>
            <a:ext cx="3810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low down if the road is we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0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5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50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4" dur="500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572000" y="3152880"/>
            <a:ext cx="4114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The unpaved edge of the road is sof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952880" y="4600440"/>
            <a:ext cx="3353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tay on the pavemen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4572000" y="457200"/>
            <a:ext cx="41911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oft Shoulder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000"/>
                            </p:stCondLst>
                            <p:childTnLst>
                              <p:par>
                                <p:cTn id="2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1500"/>
                            </p:stCondLst>
                            <p:childTnLst>
                              <p:par>
                                <p:cTn id="2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3" dur="5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rcRect l="10707" t="10719" r="24292" b="39291"/>
          <a:stretch/>
        </p:blipFill>
        <p:spPr>
          <a:xfrm>
            <a:off x="914400" y="1371600"/>
            <a:ext cx="3657600" cy="411480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791320" y="1143000"/>
            <a:ext cx="2895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4120" y="2133720"/>
            <a:ext cx="342900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562720" y="533520"/>
            <a:ext cx="3200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raffic Light Ahea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486400" y="3962520"/>
            <a:ext cx="327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Slow down and prepare to sto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" dur="500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5105520" y="5335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Railroad Crossing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181480" y="3429000"/>
            <a:ext cx="3733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Train may be coming.  Slow down and prepare to stop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0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4648320" y="533520"/>
            <a:ext cx="41148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No Passing Zone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3429000"/>
            <a:ext cx="342900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29200" y="3886200"/>
            <a:ext cx="3809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You may not pass other veh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562040"/>
            <a:ext cx="3505320" cy="3505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500"/>
                            </p:stCondLst>
                            <p:childTnLst>
                              <p:par>
                                <p:cTn id="6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34120" y="457200"/>
            <a:ext cx="34290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harp Curve Ahea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34120" y="4038480"/>
            <a:ext cx="3809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876920" y="388620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You should slow down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800600" y="609480"/>
            <a:ext cx="4038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ross Roads Ahea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36576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atch for vehicles entering or crossing the high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1000"/>
                            </p:stCondLst>
                            <p:childTnLst>
                              <p:par>
                                <p:cTn id="9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9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029200" y="533520"/>
            <a:ext cx="38098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Side Road Ahea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029200" y="3657600"/>
            <a:ext cx="38098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Watch for vehicles entering or turning off the highway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58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500"/>
                            </p:stCondLst>
                            <p:childTnLst>
                              <p:par>
                                <p:cTn id="10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876920" y="533520"/>
            <a:ext cx="38862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Two-Way Highwa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952880" y="3670200"/>
            <a:ext cx="3810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Be careful when passing other vehicle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194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5334120" y="533520"/>
            <a:ext cx="3429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Merging Traffi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29200" y="3429000"/>
            <a:ext cx="3809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Perpetua"/>
              </a:rPr>
              <a:t>Traffic may be moving into your lane.  Be ready to change speed or lan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914400" y="1600200"/>
            <a:ext cx="3657600" cy="36576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9T15:28:20Z</dcterms:created>
  <dc:creator>DSES</dc:creator>
  <dc:description/>
  <dc:language>en-US</dc:language>
  <cp:lastModifiedBy>cccti</cp:lastModifiedBy>
  <dcterms:modified xsi:type="dcterms:W3CDTF">2003-09-04T16:03:46Z</dcterms:modified>
  <cp:revision>19</cp:revision>
  <dc:subject/>
  <dc:title>PowerPoint Presentation</dc:title>
</cp:coreProperties>
</file>