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64D-EB04-4E5B-8B6B-B5EB5769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B79B-E578-4601-A773-5B025C7A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00E-537F-4938-81BA-E18308C3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073-D0D4-415A-9A61-355A662C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D736-E198-425C-AD92-BA42B633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D88-AE8A-4DA9-B98B-FB0E519E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B8BD-428D-49B6-A6D2-93067D8C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163-E136-4F01-AF7B-2397AC43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78E4-B6ED-4600-85DF-8415A30E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3FE-F296-42A1-9FB6-A8082B2F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C69-1617-40E2-8D95-41CEA405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529-400A-478B-BC5F-1113C6D8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145E-5517-433B-9B97-374528AFD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1.xml"/><Relationship Id="rId6" Type="http://schemas.openxmlformats.org/officeDocument/2006/relationships/slide" Target="slide10.xml"/><Relationship Id="rId7" Type="http://schemas.openxmlformats.org/officeDocument/2006/relationships/slide" Target="slide9.xml"/><Relationship Id="rId8" Type="http://schemas.openxmlformats.org/officeDocument/2006/relationships/slide" Target="slide8.xml"/><Relationship Id="rId9" Type="http://schemas.openxmlformats.org/officeDocument/2006/relationships/slide" Target="slide7.xml"/><Relationship Id="rId10" Type="http://schemas.openxmlformats.org/officeDocument/2006/relationships/slide" Target="slide6.xml"/><Relationship Id="rId11" Type="http://schemas.openxmlformats.org/officeDocument/2006/relationships/slide" Target="slide5.xml"/><Relationship Id="rId12" Type="http://schemas.openxmlformats.org/officeDocument/2006/relationships/slide" Target="slide4.xml"/><Relationship Id="rId13" Type="http://schemas.openxmlformats.org/officeDocument/2006/relationships/image" Target="../media/image4.wmf"/><Relationship Id="rId14" Type="http://schemas.openxmlformats.org/officeDocument/2006/relationships/slide" Target=""/><Relationship Id="rId15" Type="http://schemas.openxmlformats.org/officeDocument/2006/relationships/image" Target="../media/image5.wm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238880" y="4648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3352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Who wants to be a Millionaire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0880" y="3048120"/>
            <a:ext cx="8763120" cy="3809880"/>
            <a:chOff x="380880" y="3048120"/>
            <a:chExt cx="8763120" cy="380988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5618160" y="3389400"/>
              <a:ext cx="3525840" cy="34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80880" y="3048120"/>
              <a:ext cx="2286000" cy="346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3352680" y="5410080"/>
            <a:ext cx="221004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begin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144792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Narrow"/>
              </a:rPr>
              <a:t>This means to be included in a meal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Click here if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838080"/>
            <a:ext cx="7391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Narrow"/>
              </a:rPr>
              <a:t>A sweet food served at the end of a meal is called a ____________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Click here if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14400" y="15238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Narrow"/>
              </a:rPr>
              <a:t>This is another word for “drinks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Click here if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990720"/>
            <a:ext cx="8153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Narrow"/>
              </a:rPr>
              <a:t>The main part of the meal is called an _______________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Click here if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1066680"/>
            <a:ext cx="7696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Narrow"/>
              </a:rPr>
              <a:t>Foods that come with an entrée are called _________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Click here if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53352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Who wants to be a Millionaire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80880" y="3048120"/>
            <a:ext cx="8763120" cy="3809880"/>
            <a:chOff x="380880" y="3048120"/>
            <a:chExt cx="8763120" cy="380988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618160" y="3389400"/>
              <a:ext cx="3525840" cy="34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380880" y="3048120"/>
              <a:ext cx="2286000" cy="346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304920"/>
            <a:ext cx="8382240" cy="617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38088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ants to be a millionai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457200"/>
            <a:ext cx="2286000" cy="60364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$1 Mill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$500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$250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$125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$64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$32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$16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$8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$4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$2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$1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752480"/>
            <a:ext cx="3505320" cy="914400"/>
          </a:xfrm>
          <a:prstGeom prst="hexagon">
            <a:avLst>
              <a:gd name="adj" fmla="val 95837"/>
              <a:gd name="vf" fmla="val 115470"/>
            </a:avLst>
          </a:prstGeom>
          <a:solidFill>
            <a:srgbClr val="99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3809880"/>
            <a:ext cx="5715000" cy="2667240"/>
          </a:xfrm>
          <a:prstGeom prst="rect">
            <a:avLst/>
          </a:prstGeom>
          <a:solidFill>
            <a:srgbClr val="000000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4267080"/>
            <a:ext cx="1371600" cy="914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4267080"/>
            <a:ext cx="1371600" cy="914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267080"/>
            <a:ext cx="1371600" cy="914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4495680"/>
            <a:ext cx="9144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3201840" y="4343400"/>
            <a:ext cx="549360" cy="685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133720" y="1905120"/>
            <a:ext cx="22860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0" y="6400800"/>
            <a:ext cx="45720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 to end g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4952880" y="4343400"/>
            <a:ext cx="684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04920"/>
            <a:ext cx="8382240" cy="617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38088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ants to be a millionai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457200"/>
            <a:ext cx="2286000" cy="60364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$1 Mill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$500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$250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$125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$64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$32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$16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$8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$4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$2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$1,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1752480"/>
            <a:ext cx="3581280" cy="914400"/>
          </a:xfrm>
          <a:prstGeom prst="hexagon">
            <a:avLst>
              <a:gd name="adj" fmla="val 97913"/>
              <a:gd name="vf" fmla="val 115470"/>
            </a:avLst>
          </a:prstGeom>
          <a:solidFill>
            <a:srgbClr val="99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809880"/>
            <a:ext cx="5715000" cy="2667240"/>
          </a:xfrm>
          <a:prstGeom prst="rect">
            <a:avLst/>
          </a:prstGeom>
          <a:solidFill>
            <a:srgbClr val="000000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4191120"/>
            <a:ext cx="518148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’m sorry, that is not the correct answ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0" y="6400800"/>
            <a:ext cx="45720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 to end g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1905120"/>
            <a:ext cx="22860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1295280"/>
            <a:ext cx="7391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Narrow"/>
              </a:rPr>
              <a:t>What is the sauce that is added to salads called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Click here if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90720" y="533520"/>
            <a:ext cx="7391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Narrow"/>
              </a:rPr>
              <a:t>What is the list of foods that a restaurant serves called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Click here if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457200"/>
            <a:ext cx="8077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Narrow"/>
              </a:rPr>
              <a:t>A man who takes you order and brings your food is called a _____________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Click here if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762120"/>
            <a:ext cx="86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Narrow"/>
              </a:rPr>
              <a:t>A woman who takes your order and brings your food is called a ________________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35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Click here if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914400"/>
            <a:ext cx="7696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Narrow"/>
              </a:rPr>
              <a:t>The person who cooks your food is called a ________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35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Click here if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99072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Narrow"/>
              </a:rPr>
              <a:t>A small snack served at the beginning of a meal is called an ______________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6019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352680" y="6019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Click here if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8:48:26Z</dcterms:created>
  <dc:creator>DSES</dc:creator>
  <dc:description/>
  <dc:language>en-US</dc:language>
  <cp:lastModifiedBy> </cp:lastModifiedBy>
  <dcterms:modified xsi:type="dcterms:W3CDTF">2004-07-29T15:47:15Z</dcterms:modified>
  <cp:revision>28</cp:revision>
  <dc:subject/>
  <dc:title>PowerPoint Presentation</dc:title>
</cp:coreProperties>
</file>