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3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D14-AA72-4260-81B9-D3BDD045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0F8-2A05-4A42-BEC8-245B69C8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91E-E662-40F2-A315-AB727C68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5AC-0BB2-4141-BC7F-0C0FA013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643-696E-4307-AF0C-AC62956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295-8891-4CDB-B97E-403DF0E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1E0-40C0-46C9-93F3-18527ACE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8EC-C497-4194-A148-2CD175B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604-5F43-407E-838F-0638A621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BF8-DCFD-4854-A2A8-BE68E0A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199-6197-4D1C-9B05-A3BB5AB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DEA-4C93-4FC9-ABF9-85A14B9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CE3-D43E-4CF9-97EB-CD51EAE6D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Understanding Report Card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96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843520" y="1600200"/>
            <a:ext cx="2679840" cy="403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029200" cy="335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45720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hysical edu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762120"/>
            <a:ext cx="6553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ding, math, science, social studies, art, music, and P.E. are all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5238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receive a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for each subject on your report ca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15238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’s and B’s are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ood gra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1200" y="4191120"/>
            <a:ext cx="29016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1752480"/>
            <a:ext cx="71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’s are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average gra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3080" y="0"/>
            <a:ext cx="8458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’s are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bad gra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’s are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ailing grade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17960" y="4267080"/>
            <a:ext cx="2901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44640" y="1600200"/>
            <a:ext cx="240804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86200" y="1143000"/>
            <a:ext cx="4876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you are sick and don’t come to school, you are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bsen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9280" y="838080"/>
            <a:ext cx="3436920" cy="5105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114800" y="137160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you are late arriving to school, you are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ardy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6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304920"/>
            <a:ext cx="72388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e number of times you are absent or tardy will appear on your report car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4419720" cy="3535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029200" y="1143000"/>
            <a:ext cx="3809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imes parents and teachers hav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discuss Report Ca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3808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port C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1981080"/>
            <a:ext cx="4800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f a student is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assing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his/her subjects, they will be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romoted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to the next grad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317484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5520" y="144792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33480" y="533520"/>
            <a:ext cx="37908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1480" y="14479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77880"/>
            <a:ext cx="3733920" cy="253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45720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09960" y="3429000"/>
            <a:ext cx="3543120" cy="238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57800" y="157464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3657600" cy="245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284004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248904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1480" y="14479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33920" y="2082960"/>
            <a:ext cx="464796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2680" y="1219320"/>
            <a:ext cx="290988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91120" y="6094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029200" y="16002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53920" y="914400"/>
            <a:ext cx="463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24280" y="27432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152388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14:25:02Z</dcterms:created>
  <dc:creator>DSES</dc:creator>
  <dc:description/>
  <dc:language>en-US</dc:language>
  <cp:lastModifiedBy>cccti</cp:lastModifiedBy>
  <dcterms:modified xsi:type="dcterms:W3CDTF">2003-09-04T16:02:26Z</dcterms:modified>
  <cp:revision>15</cp:revision>
  <dc:subject/>
  <dc:title>PowerPoint Presentation</dc:title>
</cp:coreProperties>
</file>