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F48-613D-43D6-8728-C02975FE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0B5-520B-443B-9BC3-ED78B1F3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CFD-8177-40E6-8E02-CF31BEC5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B48-B378-42ED-B15D-F4DCADCF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5C0A-A201-4396-8268-87D9CF73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60B0-08EA-44BF-BC19-C9D590F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105E-73A6-43B9-B2D7-85D366C0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BC77-D111-4F08-B33D-9562AC82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8986-D4BB-428C-82E2-9B88C19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DC59-A717-4D65-875F-96CCFAEF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C02F-17B9-4168-BCA9-3AE64E91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EAB-8A3F-48B9-ABA5-17843324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3C54-B62F-4DF2-88A0-4F81DD6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70A3-EE04-4218-8978-BAC08FE9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5569-0A0E-4880-A047-6E34C9B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71A8-31C9-4650-A7C3-205CBBAE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750F-89FE-49A8-A0B1-FDBB4D54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197-9D10-41B8-AB94-2F631948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B80-D391-4B25-8F0A-CE940FDE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CF1-087A-4BE4-9DA9-43A24CAD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79A-D8C2-4256-95B0-8A821E98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553-4F64-474C-BCFB-1744F57A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071-EDFD-4E93-9A18-A9E77F6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7E8-47CA-4A6E-B68B-434F84E0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1E9-7087-47E8-A8ED-7C8952869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8AF5-F4C3-4E6B-B4BF-9EC205DCF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990720"/>
            <a:ext cx="586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How to Print a Docu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486400" y="3639960"/>
            <a:ext cx="2666880" cy="225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533520"/>
            <a:ext cx="510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printer is connected to your compu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74800" y="3124080"/>
            <a:ext cx="2533680" cy="2590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15000" y="3213000"/>
            <a:ext cx="2514600" cy="2122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954680" y="3838680"/>
            <a:ext cx="1041480" cy="566640"/>
          </a:xfrm>
          <a:custGeom>
            <a:avLst/>
            <a:gdLst/>
            <a:ahLst/>
            <a:rect l="l" t="t" r="r" b="b"/>
            <a:pathLst>
              <a:path w="656" h="357">
                <a:moveTo>
                  <a:pt x="0" y="341"/>
                </a:moveTo>
                <a:cubicBezTo>
                  <a:pt x="22" y="337"/>
                  <a:pt x="49" y="342"/>
                  <a:pt x="67" y="328"/>
                </a:cubicBezTo>
                <a:cubicBezTo>
                  <a:pt x="137" y="274"/>
                  <a:pt x="129" y="185"/>
                  <a:pt x="161" y="114"/>
                </a:cubicBezTo>
                <a:cubicBezTo>
                  <a:pt x="190" y="50"/>
                  <a:pt x="245" y="22"/>
                  <a:pt x="308" y="7"/>
                </a:cubicBezTo>
                <a:cubicBezTo>
                  <a:pt x="415" y="20"/>
                  <a:pt x="455" y="0"/>
                  <a:pt x="415" y="114"/>
                </a:cubicBezTo>
                <a:cubicBezTo>
                  <a:pt x="429" y="181"/>
                  <a:pt x="430" y="252"/>
                  <a:pt x="456" y="315"/>
                </a:cubicBezTo>
                <a:cubicBezTo>
                  <a:pt x="474" y="357"/>
                  <a:pt x="632" y="355"/>
                  <a:pt x="656" y="355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5280" y="609480"/>
            <a:ext cx="6400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inter allows you to print documents from your computer onto pap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3670200" cy="346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30492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re are two ways to print documents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657600" y="2666880"/>
            <a:ext cx="3581280" cy="2837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way is to left-click the printer icon on the main tool b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362320" y="2057400"/>
            <a:ext cx="1295280" cy="129528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81080" y="838080"/>
            <a:ext cx="5181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tells your computer to print one copy of your documen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86200" y="3886200"/>
            <a:ext cx="4800600" cy="11912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highlight and left-click “Print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0" y="762120"/>
            <a:ext cx="533520" cy="1371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04920" y="1828800"/>
            <a:ext cx="533160" cy="1447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1143000"/>
            <a:ext cx="4800600" cy="202572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way is to click on “File.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75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666880" y="3352680"/>
            <a:ext cx="2286000" cy="20437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number of copies you would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029200" y="2971800"/>
            <a:ext cx="13716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76720" y="2819520"/>
            <a:ext cx="1981080" cy="1556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click the “OK”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419720"/>
            <a:ext cx="5335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685800"/>
            <a:ext cx="6400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e printer will now print your docum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367020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14:58:24Z</dcterms:created>
  <dc:creator>Jodie Isenhour</dc:creator>
  <dc:description/>
  <dc:language>en-US</dc:language>
  <cp:lastModifiedBy>Melinda M. Hefner</cp:lastModifiedBy>
  <dcterms:modified xsi:type="dcterms:W3CDTF">2003-08-25T20:28:57Z</dcterms:modified>
  <cp:revision>14</cp:revision>
  <dc:subject/>
  <dc:title>PowerPoint Presentation</dc:title>
</cp:coreProperties>
</file>