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gif" ContentType="image/gi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EFB-DCC3-40BB-BAAE-27284B8D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F1C-CD0E-492A-A2D3-A9835672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799-78FB-41E8-A0E5-F68D0425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BB8-AE73-4609-990D-20D46F2D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B8F6-2FA6-4AE0-BB06-5AC10C5D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14EE-16F5-455C-A216-84C27988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1522-99AD-4E5A-8F99-C284E556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958D-A492-4DEF-9FF3-F8C609B8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601E-59C7-4E75-831B-F28BD34E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3133-D582-40CD-85F0-5423A587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BF80-F670-4A61-8B17-DE2D33CE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E81D-9FBA-456C-A5C1-17F698F3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DCD7-F4D9-44A5-A93E-E2B909F2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E171-85A9-41C6-A595-392303D4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1174-8FFC-4721-BBAC-9B41F659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625C-56B5-45FA-B470-F5852446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4942-E4EC-47EA-9B0A-33766182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CBB-DC63-4EE5-8A78-2C97D609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772-D50D-426F-8844-9F014EC0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4F1-9A44-46C1-B1EC-5BBF20DC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490-0975-4789-997C-CF1B31F9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625-B639-48A7-AF9A-A01A7453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E2D-D28B-4343-92AB-5F146032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F0B-4B37-4059-A86E-DD82DDD9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750A-1891-44CF-89F2-36C8E0D6A6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4D94-42F6-49D7-B776-D47607945D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00200" y="68580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What is the Internet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00400" y="3505320"/>
            <a:ext cx="2673360" cy="264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3880" y="7621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 do I get on the Interne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733920" y="2162160"/>
            <a:ext cx="1622160" cy="39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1828800"/>
            <a:ext cx="762012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3400" spc="-1" strike="noStrike">
                <a:solidFill>
                  <a:srgbClr val="cc3300"/>
                </a:solidFill>
                <a:latin typeface="Tahoma"/>
              </a:rPr>
              <a:t>Internet Service Provider (ISP</a:t>
            </a:r>
            <a:r>
              <a:rPr b="0" lang="en-US" sz="3400" spc="-1" strike="noStrike">
                <a:solidFill>
                  <a:srgbClr val="cc3300"/>
                </a:solidFill>
                <a:latin typeface="Tahoma"/>
              </a:rPr>
              <a:t>)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is a company that allows you to connect to the Internet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if I don’t have a compu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762360" cy="351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981080" y="7621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ou can get on the Internet at a public library or at your schoo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2558880" cy="304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380880"/>
            <a:ext cx="6705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Interne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s millions of computers all over the world </a:t>
            </a: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connected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together so they can exchange informa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895480" y="32004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4400" y="5335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Internet is also known as the </a:t>
            </a: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information superhighwa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because you can get information on almost anyt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666880" y="2830680"/>
            <a:ext cx="3657600" cy="3605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22860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6000" spc="-1" strike="noStrike">
                <a:solidFill>
                  <a:srgbClr val="cc3300"/>
                </a:solidFill>
                <a:latin typeface="Tahoma"/>
              </a:rPr>
              <a:t>World Wide Web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is part of the Internet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533520"/>
            <a:ext cx="72388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use the  World Wide Web to get information and sell or buy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orld Wide Web is made up of 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eb pag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link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gether like a spider’s web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06760" y="3048120"/>
            <a:ext cx="3060720" cy="312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371600" y="457200"/>
            <a:ext cx="6477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Web pages contain information in the form of </a:t>
            </a:r>
            <a:r>
              <a:rPr b="1" lang="en-US" sz="6000" spc="-1" strike="noStrike">
                <a:solidFill>
                  <a:srgbClr val="cc3300"/>
                </a:solidFill>
                <a:latin typeface="Tahoma"/>
              </a:rPr>
              <a:t>text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, pictures, sound, and video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533520"/>
            <a:ext cx="71625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A group of web pages that give information on the same topic make up a </a:t>
            </a:r>
            <a:r>
              <a:rPr b="1" lang="en-US" sz="6600" spc="-1" strike="noStrike">
                <a:solidFill>
                  <a:srgbClr val="cc3300"/>
                </a:solidFill>
                <a:latin typeface="Tahoma"/>
              </a:rPr>
              <a:t>web site</a:t>
            </a: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00200" y="457200"/>
            <a:ext cx="58672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People also use the Internet to </a:t>
            </a:r>
            <a:r>
              <a:rPr b="1" lang="en-US" sz="3700" spc="-1" strike="noStrike">
                <a:solidFill>
                  <a:srgbClr val="cc3300"/>
                </a:solidFill>
                <a:latin typeface="Tahoma"/>
              </a:rPr>
              <a:t>communicate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 with one another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554640" cy="3506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8088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Electronic mail (e-mail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other part of the Internet.  It allows people all over the world to communicate with each other by sending electronic messages through their compu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819520" y="3505320"/>
            <a:ext cx="3429000" cy="266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8:49Z</dcterms:created>
  <dc:creator>DSES</dc:creator>
  <dc:description/>
  <dc:language>en-US</dc:language>
  <cp:lastModifiedBy>cccti</cp:lastModifiedBy>
  <dcterms:modified xsi:type="dcterms:W3CDTF">2003-09-04T16:12:47Z</dcterms:modified>
  <cp:revision>12</cp:revision>
  <dc:subject/>
  <dc:title>PowerPoint Presentation</dc:title>
</cp:coreProperties>
</file>