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ashreg.wav" ContentType="audio/x-wav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670-0757-4363-91A3-B927C25F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8BB-287C-4DF6-B1F6-515E2F7D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A68-15EC-4818-BEF0-7751C83F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0FD-0E2B-445E-BCB6-3D9F2234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3190-646E-43D3-A6CE-2025EBC4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5111-012D-4D40-825B-E8C7B12D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A6B3-6A5E-4232-8251-B0B7347F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C0C7-921D-49EF-BAA5-611ADF7E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8E7F-902C-4E45-88F4-57846D58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B42D-FD7C-49C5-B625-EA74B6C9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702A-B466-490E-8782-5B9CE05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C21-8F65-48A1-9865-655537EA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8220-65BF-4A5E-AFA3-C9C99A9A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9FEB-2DF0-4B05-BAF9-0DC2DCDF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85C0-35CA-4896-A240-1ABF8416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2602-CEE5-4DB0-B7DE-300E89F3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644D-DC60-40A6-A247-4C04CD4A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55A-7346-4948-953F-6FA778BF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B7A-9BD5-442A-9630-EC5728CD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DCA-54C8-4C0C-97CC-2FE4ABFB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1B8-03F2-49B5-B7DE-F160660F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DA3-4DC1-480B-9D2A-41CEB257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40C-D5DD-4023-A319-6B944337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A40-EBBC-4061-9471-C535DB53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1A84-BF19-4A91-825C-66E1884BA6F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C08E-EC75-406A-8532-F2B1F2855DF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209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57400" y="1905120"/>
            <a:ext cx="50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imes New Roman"/>
              </a:rPr>
              <a:t>It costs .49¢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45720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______ _____ is this candy bar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1055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It is _________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27636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71800" y="1933560"/>
            <a:ext cx="3124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imes New Roman"/>
              </a:rPr>
              <a:t>It is  .69¢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30492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________ ______ are these pencils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5257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They are _________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81080" y="1905120"/>
            <a:ext cx="5181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imes New Roman"/>
              </a:rPr>
              <a:t>They are  .25¢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What is the _______ of this eraser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518148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The price is ______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3130560" cy="227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00200" y="1933560"/>
            <a:ext cx="58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imes New Roman"/>
              </a:rPr>
              <a:t>The price is  .39¢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4572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What is the _______ of this ruler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541008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The price is ______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2819520" cy="271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28800" y="193356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imes New Roman"/>
              </a:rPr>
              <a:t>The price is .33¢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Garamond"/>
              </a:rPr>
              <a:t>The Price is Right</a:t>
            </a:r>
            <a:endParaRPr b="0" lang="en-US" sz="8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Garamond"/>
              </a:rPr>
              <a:t>Name the Cost of Something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38088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How much does this apple ________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1814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It costs _______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3124080" cy="210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33720" y="193356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imes New Roman"/>
              </a:rPr>
              <a:t>It costs .30¢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38088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How much does this orange ________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1814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It costs _______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048120" cy="20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05120" y="1905120"/>
            <a:ext cx="541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imes New Roman"/>
              </a:rPr>
              <a:t>It costs .50¢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38088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How much does this candy ________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51814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It costs _________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200400" cy="215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38280" y="1905120"/>
            <a:ext cx="4191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imes New Roman"/>
              </a:rPr>
              <a:t>It costs .70¢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38088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How much does this pack of gum _______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1814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It costs _______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065760" cy="183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8:24:07Z</dcterms:created>
  <dc:creator>DSES</dc:creator>
  <dc:description/>
  <dc:language>en-US</dc:language>
  <cp:lastModifiedBy>cccti</cp:lastModifiedBy>
  <dcterms:modified xsi:type="dcterms:W3CDTF">2003-09-17T14:32:13Z</dcterms:modified>
  <cp:revision>17</cp:revision>
  <dc:subject/>
  <dc:title>PowerPoint Presentation</dc:title>
</cp:coreProperties>
</file>