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D08-F747-46F3-8D12-A4883B4D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55A-5C9F-400F-AF49-869694FC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620D-C108-4D5D-97B6-1C2968F5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1C7E-B9EB-4A4E-ABE6-8130278A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E144-C715-408F-AC95-D1669FE3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B774-A147-43BE-B320-8C415A5B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B16A-C087-4AAB-8F21-30139A9E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1E4E-368D-4CE2-BD3F-1FEAB6D6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DCE8-82F9-49CF-89CF-3637EA40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243B-FD6E-47BB-B290-AEAE9CD3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D7F0-0611-446C-9729-04966C49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613-96FE-44C6-A469-A18A8921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D9BE-E6E8-447C-A498-791AED5F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0B14-FADB-471F-A88F-2F1F7F10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5B79-129F-49B1-A9C8-D0458553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6114-0B48-43F2-811B-224917EC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B234-B707-4B98-B0F8-2DC09900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1F0-95EE-4FF4-A87E-8F03EA2E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9603-0FB3-4728-8C9D-4A8B808A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2598-05D4-438C-B947-55474F45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CF5-9E69-4ED1-B804-7FCAC266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ACB-7052-488D-AE62-8C1ED642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B793-A592-4AC8-8D8A-A5F33CFC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A71-697F-4F76-BA6E-14BEBBD6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0DDD-76C7-4A1C-A874-416587847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DB2B-8F05-4EFD-AC94-09085A5DB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3880" y="838080"/>
            <a:ext cx="61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Hair Salons &amp; Barber Shop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333680" cy="4419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48320" y="914400"/>
            <a:ext cx="4114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He is getting a haircut.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j0351632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3540240" cy="3962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8800" y="5105520"/>
            <a:ext cx="556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Hair Salon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5120" y="1476360"/>
            <a:ext cx="3733560" cy="3378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086600" y="1066680"/>
            <a:ext cx="698400" cy="3505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828800" y="5257800"/>
            <a:ext cx="594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Barber Shop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j0316803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013280" cy="6019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29200" y="1828800"/>
            <a:ext cx="3657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Her hair is long, dark, and curly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j018253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971880" cy="5943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76920" y="914400"/>
            <a:ext cx="3886200" cy="43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Her hair is short, dark, and straight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j0178806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562720" cy="3708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90720" y="4191120"/>
            <a:ext cx="769608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She has blonde, medium-length hair.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j0289896" descr=""/>
          <p:cNvPicPr/>
          <p:nvPr/>
        </p:nvPicPr>
        <p:blipFill>
          <a:blip r:embed="rId1"/>
          <a:srcRect l="-4180" t="0" r="0" b="34724"/>
          <a:stretch/>
        </p:blipFill>
        <p:spPr>
          <a:xfrm>
            <a:off x="2286000" y="685800"/>
            <a:ext cx="4648320" cy="4400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rot="16200000">
            <a:off x="6591240" y="1943280"/>
            <a:ext cx="76320" cy="1676160"/>
          </a:xfrm>
          <a:custGeom>
            <a:avLst/>
            <a:gdLst/>
            <a:ahLst/>
            <a:rect l="l" t="t" r="r" b="b"/>
            <a:pathLst>
              <a:path w="127" h="1002">
                <a:moveTo>
                  <a:pt x="85" y="499"/>
                </a:moveTo>
                <a:lnTo>
                  <a:pt x="85" y="947"/>
                </a:lnTo>
                <a:lnTo>
                  <a:pt x="42" y="947"/>
                </a:lnTo>
                <a:lnTo>
                  <a:pt x="42" y="53"/>
                </a:lnTo>
                <a:lnTo>
                  <a:pt x="85" y="53"/>
                </a:lnTo>
                <a:lnTo>
                  <a:pt x="85" y="499"/>
                </a:lnTo>
                <a:lnTo>
                  <a:pt x="127" y="501"/>
                </a:lnTo>
                <a:lnTo>
                  <a:pt x="127" y="0"/>
                </a:lnTo>
                <a:lnTo>
                  <a:pt x="0" y="0"/>
                </a:lnTo>
                <a:lnTo>
                  <a:pt x="0" y="1002"/>
                </a:lnTo>
                <a:lnTo>
                  <a:pt x="127" y="1002"/>
                </a:lnTo>
                <a:lnTo>
                  <a:pt x="127" y="501"/>
                </a:lnTo>
                <a:lnTo>
                  <a:pt x="85" y="49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45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5334120" y="2514600"/>
            <a:ext cx="380880" cy="533520"/>
          </a:xfrm>
          <a:custGeom>
            <a:avLst/>
            <a:gdLst/>
            <a:ahLst/>
            <a:rect l="l" t="t" r="r" b="b"/>
            <a:pathLst>
              <a:path w="808" h="931">
                <a:moveTo>
                  <a:pt x="405" y="738"/>
                </a:moveTo>
                <a:lnTo>
                  <a:pt x="534" y="738"/>
                </a:lnTo>
                <a:lnTo>
                  <a:pt x="405" y="434"/>
                </a:lnTo>
                <a:lnTo>
                  <a:pt x="272" y="738"/>
                </a:lnTo>
                <a:lnTo>
                  <a:pt x="405" y="738"/>
                </a:lnTo>
                <a:lnTo>
                  <a:pt x="405" y="931"/>
                </a:lnTo>
                <a:lnTo>
                  <a:pt x="0" y="931"/>
                </a:lnTo>
                <a:lnTo>
                  <a:pt x="405" y="0"/>
                </a:lnTo>
                <a:lnTo>
                  <a:pt x="808" y="931"/>
                </a:lnTo>
                <a:lnTo>
                  <a:pt x="405" y="931"/>
                </a:lnTo>
                <a:lnTo>
                  <a:pt x="405" y="73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45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3505320"/>
            <a:ext cx="358560" cy="533160"/>
          </a:xfrm>
          <a:custGeom>
            <a:avLst/>
            <a:gdLst/>
            <a:ahLst/>
            <a:rect l="l" t="t" r="r" b="b"/>
            <a:pathLst>
              <a:path w="808" h="931">
                <a:moveTo>
                  <a:pt x="405" y="738"/>
                </a:moveTo>
                <a:lnTo>
                  <a:pt x="534" y="738"/>
                </a:lnTo>
                <a:lnTo>
                  <a:pt x="405" y="434"/>
                </a:lnTo>
                <a:lnTo>
                  <a:pt x="272" y="738"/>
                </a:lnTo>
                <a:lnTo>
                  <a:pt x="405" y="738"/>
                </a:lnTo>
                <a:lnTo>
                  <a:pt x="405" y="931"/>
                </a:lnTo>
                <a:lnTo>
                  <a:pt x="0" y="931"/>
                </a:lnTo>
                <a:lnTo>
                  <a:pt x="405" y="0"/>
                </a:lnTo>
                <a:lnTo>
                  <a:pt x="808" y="931"/>
                </a:lnTo>
                <a:lnTo>
                  <a:pt x="405" y="931"/>
                </a:lnTo>
                <a:lnTo>
                  <a:pt x="405" y="73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45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695400" y="2628720"/>
            <a:ext cx="381240" cy="457200"/>
          </a:xfrm>
          <a:custGeom>
            <a:avLst/>
            <a:gdLst/>
            <a:ahLst/>
            <a:rect l="l" t="t" r="r" b="b"/>
            <a:pathLst>
              <a:path w="808" h="931">
                <a:moveTo>
                  <a:pt x="405" y="738"/>
                </a:moveTo>
                <a:lnTo>
                  <a:pt x="534" y="738"/>
                </a:lnTo>
                <a:lnTo>
                  <a:pt x="405" y="434"/>
                </a:lnTo>
                <a:lnTo>
                  <a:pt x="272" y="738"/>
                </a:lnTo>
                <a:lnTo>
                  <a:pt x="405" y="738"/>
                </a:lnTo>
                <a:lnTo>
                  <a:pt x="405" y="931"/>
                </a:lnTo>
                <a:lnTo>
                  <a:pt x="0" y="931"/>
                </a:lnTo>
                <a:lnTo>
                  <a:pt x="405" y="0"/>
                </a:lnTo>
                <a:lnTo>
                  <a:pt x="808" y="931"/>
                </a:lnTo>
                <a:lnTo>
                  <a:pt x="405" y="931"/>
                </a:lnTo>
                <a:lnTo>
                  <a:pt x="405" y="73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45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4038480"/>
            <a:ext cx="76320" cy="1676520"/>
          </a:xfrm>
          <a:custGeom>
            <a:avLst/>
            <a:gdLst/>
            <a:ahLst/>
            <a:rect l="l" t="t" r="r" b="b"/>
            <a:pathLst>
              <a:path w="127" h="1002">
                <a:moveTo>
                  <a:pt x="85" y="499"/>
                </a:moveTo>
                <a:lnTo>
                  <a:pt x="85" y="947"/>
                </a:lnTo>
                <a:lnTo>
                  <a:pt x="42" y="947"/>
                </a:lnTo>
                <a:lnTo>
                  <a:pt x="42" y="53"/>
                </a:lnTo>
                <a:lnTo>
                  <a:pt x="85" y="53"/>
                </a:lnTo>
                <a:lnTo>
                  <a:pt x="85" y="499"/>
                </a:lnTo>
                <a:lnTo>
                  <a:pt x="127" y="501"/>
                </a:lnTo>
                <a:lnTo>
                  <a:pt x="127" y="0"/>
                </a:lnTo>
                <a:lnTo>
                  <a:pt x="0" y="0"/>
                </a:lnTo>
                <a:lnTo>
                  <a:pt x="0" y="1002"/>
                </a:lnTo>
                <a:lnTo>
                  <a:pt x="127" y="1002"/>
                </a:lnTo>
                <a:lnTo>
                  <a:pt x="127" y="501"/>
                </a:lnTo>
                <a:lnTo>
                  <a:pt x="85" y="49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45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781360" y="2018880"/>
            <a:ext cx="75960" cy="1676520"/>
          </a:xfrm>
          <a:custGeom>
            <a:avLst/>
            <a:gdLst/>
            <a:ahLst/>
            <a:rect l="l" t="t" r="r" b="b"/>
            <a:pathLst>
              <a:path w="127" h="1002">
                <a:moveTo>
                  <a:pt x="85" y="499"/>
                </a:moveTo>
                <a:lnTo>
                  <a:pt x="85" y="947"/>
                </a:lnTo>
                <a:lnTo>
                  <a:pt x="42" y="947"/>
                </a:lnTo>
                <a:lnTo>
                  <a:pt x="42" y="53"/>
                </a:lnTo>
                <a:lnTo>
                  <a:pt x="85" y="53"/>
                </a:lnTo>
                <a:lnTo>
                  <a:pt x="85" y="499"/>
                </a:lnTo>
                <a:lnTo>
                  <a:pt x="127" y="501"/>
                </a:lnTo>
                <a:lnTo>
                  <a:pt x="127" y="0"/>
                </a:lnTo>
                <a:lnTo>
                  <a:pt x="0" y="0"/>
                </a:lnTo>
                <a:lnTo>
                  <a:pt x="0" y="1002"/>
                </a:lnTo>
                <a:lnTo>
                  <a:pt x="127" y="1002"/>
                </a:lnTo>
                <a:lnTo>
                  <a:pt x="127" y="501"/>
                </a:lnTo>
                <a:lnTo>
                  <a:pt x="85" y="49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45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debu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56386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9718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stac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j021607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052880" cy="6096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57800" y="1371600"/>
            <a:ext cx="3352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His hair is gray.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j0227523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3394080" cy="5105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rot="16200000">
            <a:off x="3058920" y="1436400"/>
            <a:ext cx="434880" cy="762120"/>
          </a:xfrm>
          <a:custGeom>
            <a:avLst/>
            <a:gdLst/>
            <a:ahLst/>
            <a:rect l="l" t="t" r="r" b="b"/>
            <a:pathLst>
              <a:path w="808" h="931">
                <a:moveTo>
                  <a:pt x="405" y="738"/>
                </a:moveTo>
                <a:lnTo>
                  <a:pt x="534" y="738"/>
                </a:lnTo>
                <a:lnTo>
                  <a:pt x="405" y="434"/>
                </a:lnTo>
                <a:lnTo>
                  <a:pt x="272" y="738"/>
                </a:lnTo>
                <a:lnTo>
                  <a:pt x="405" y="738"/>
                </a:lnTo>
                <a:lnTo>
                  <a:pt x="405" y="931"/>
                </a:lnTo>
                <a:lnTo>
                  <a:pt x="0" y="931"/>
                </a:lnTo>
                <a:lnTo>
                  <a:pt x="405" y="0"/>
                </a:lnTo>
                <a:lnTo>
                  <a:pt x="808" y="931"/>
                </a:lnTo>
                <a:lnTo>
                  <a:pt x="405" y="931"/>
                </a:lnTo>
                <a:lnTo>
                  <a:pt x="405" y="73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45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4457520" y="977760"/>
            <a:ext cx="76320" cy="1676520"/>
          </a:xfrm>
          <a:custGeom>
            <a:avLst/>
            <a:gdLst/>
            <a:ahLst/>
            <a:rect l="l" t="t" r="r" b="b"/>
            <a:pathLst>
              <a:path w="127" h="1002">
                <a:moveTo>
                  <a:pt x="85" y="499"/>
                </a:moveTo>
                <a:lnTo>
                  <a:pt x="85" y="947"/>
                </a:lnTo>
                <a:lnTo>
                  <a:pt x="42" y="947"/>
                </a:lnTo>
                <a:lnTo>
                  <a:pt x="42" y="53"/>
                </a:lnTo>
                <a:lnTo>
                  <a:pt x="85" y="53"/>
                </a:lnTo>
                <a:lnTo>
                  <a:pt x="85" y="499"/>
                </a:lnTo>
                <a:lnTo>
                  <a:pt x="127" y="501"/>
                </a:lnTo>
                <a:lnTo>
                  <a:pt x="127" y="0"/>
                </a:lnTo>
                <a:lnTo>
                  <a:pt x="0" y="0"/>
                </a:lnTo>
                <a:lnTo>
                  <a:pt x="0" y="1002"/>
                </a:lnTo>
                <a:lnTo>
                  <a:pt x="127" y="1002"/>
                </a:lnTo>
                <a:lnTo>
                  <a:pt x="127" y="501"/>
                </a:lnTo>
                <a:lnTo>
                  <a:pt x="85" y="49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45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990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ng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DD00203_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1219320" cy="477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1523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1523880"/>
            <a:ext cx="3505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Her hair is red.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5T15:47:59Z</dcterms:created>
  <dc:creator>DSES</dc:creator>
  <dc:description/>
  <dc:language>en-US</dc:language>
  <cp:lastModifiedBy>cccti</cp:lastModifiedBy>
  <dcterms:modified xsi:type="dcterms:W3CDTF">2003-08-06T21:49:43Z</dcterms:modified>
  <cp:revision>10</cp:revision>
  <dc:subject/>
  <dc:title>PowerPoint Presentation</dc:title>
</cp:coreProperties>
</file>