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8.jpeg" ContentType="image/jpeg"/>
  <Override PartName="/ppt/media/image23.wmf" ContentType="image/x-wmf"/>
  <Override PartName="/ppt/media/image27.jpeg" ContentType="image/jpeg"/>
  <Override PartName="/ppt/media/image13.wmf" ContentType="image/x-wmf"/>
  <Override PartName="/ppt/media/image24.jpeg" ContentType="image/jpeg"/>
  <Override PartName="/ppt/media/image22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png" ContentType="image/png"/>
  <Override PartName="/ppt/media/image10.wmf" ContentType="image/x-wmf"/>
  <Override PartName="/ppt/media/image25.jpeg" ContentType="image/jpeg"/>
  <Override PartName="/ppt/media/image4.jpeg" ContentType="image/jpeg"/>
  <Override PartName="/ppt/media/image8.wmf" ContentType="image/x-wmf"/>
  <Override PartName="/ppt/media/image33.wmf" ContentType="image/x-wmf"/>
  <Override PartName="/ppt/media/image3.png" ContentType="image/png"/>
  <Override PartName="/ppt/media/image30.wmf" ContentType="image/x-wmf"/>
  <Override PartName="/ppt/media/image34.wmf" ContentType="image/x-wmf"/>
  <Override PartName="/ppt/media/image37.wmf" ContentType="image/x-wmf"/>
  <Override PartName="/ppt/media/image7.wmf" ContentType="image/x-wmf"/>
  <Override PartName="/ppt/media/image20.jpeg" ContentType="image/jpeg"/>
  <Override PartName="/ppt/media/image12.wmf" ContentType="image/x-wmf"/>
  <Override PartName="/ppt/media/image36.wmf" ContentType="image/x-wmf"/>
  <Override PartName="/ppt/media/image40.wmf" ContentType="image/x-wmf"/>
  <Override PartName="/ppt/media/image6.png" ContentType="image/png"/>
  <Override PartName="/ppt/media/image9.wmf" ContentType="image/x-wmf"/>
  <Override PartName="/ppt/media/image39.wmf" ContentType="image/x-wmf"/>
  <Override PartName="/ppt/media/image11.wmf" ContentType="image/x-wmf"/>
  <Override PartName="/ppt/media/image5.jpeg" ContentType="image/jpeg"/>
  <Override PartName="/ppt/media/image26.jpeg" ContentType="image/jpeg"/>
  <Override PartName="/ppt/media/image32.wmf" ContentType="image/x-wmf"/>
  <Override PartName="/ppt/media/image2.wmf" ContentType="image/x-wmf"/>
  <Override PartName="/ppt/media/image38.jpeg" ContentType="image/jpeg"/>
  <Override PartName="/ppt/media/image31.wmf" ContentType="image/x-wmf"/>
  <Override PartName="/ppt/media/image1.wmf" ContentType="image/x-wmf"/>
  <Override PartName="/ppt/media/image4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3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6BF4-EEEB-45CB-B430-A28F835F9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6279-265B-43C5-BF8D-CC113B2C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A741-C728-4BE4-8C08-B49A488FB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87E7-BD90-429A-9E5E-D7048492A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2C74-80C1-40F5-A684-4FB328CA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6240-8B28-4D09-A413-76AF629C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9762-D92C-42A7-8091-564F0AF7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2514-DA29-426B-A259-5B78AEC6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51BA-DADD-4A22-8ECF-D873159B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6437-429D-435A-ACA0-0B8C8D97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8D2E-0281-4CDB-9506-83DA5F9B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5A83-8E87-4CB6-94A5-14611AE5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B72D-AB35-4848-98B2-612183DC3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image" Target="../media/image3.png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slide11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slide11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fas.usda.gov/info/agexporter/2000/May/transl6.jpg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11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11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11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11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11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7.xml"/><Relationship Id="rId3" Type="http://schemas.openxmlformats.org/officeDocument/2006/relationships/slide" Target="slide28.xml"/><Relationship Id="rId4" Type="http://schemas.openxmlformats.org/officeDocument/2006/relationships/slide" Target="slide29.xml"/><Relationship Id="rId5" Type="http://schemas.openxmlformats.org/officeDocument/2006/relationships/image" Target="../media/image3.png"/><Relationship Id="rId6" Type="http://schemas.openxmlformats.org/officeDocument/2006/relationships/slide" Target="slide30.xml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" Target="slide20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lovson.com/gifs/toothpaste-2.jpg" TargetMode="External"/><Relationship Id="rId2" Type="http://schemas.openxmlformats.org/officeDocument/2006/relationships/image" Target="../media/image20.jpeg"/><Relationship Id="rId3" Type="http://schemas.openxmlformats.org/officeDocument/2006/relationships/slide" Target="slide20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" Target="slide20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20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" Target="slide20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20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20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20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20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5.xml"/><Relationship Id="rId3" Type="http://schemas.openxmlformats.org/officeDocument/2006/relationships/slide" Target="slide33.xml"/><Relationship Id="rId4" Type="http://schemas.openxmlformats.org/officeDocument/2006/relationships/slide" Target="slide34.xm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" Target="slide31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" Target="slide31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" Target="slide31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" Target="slide31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" Target="slide43.xml"/><Relationship Id="rId3" Type="http://schemas.openxmlformats.org/officeDocument/2006/relationships/slide" Target="slide39.xml"/><Relationship Id="rId4" Type="http://schemas.openxmlformats.org/officeDocument/2006/relationships/slide" Target="slide44.xml"/><Relationship Id="rId5" Type="http://schemas.openxmlformats.org/officeDocument/2006/relationships/slide" Target="slide40.xml"/><Relationship Id="rId6" Type="http://schemas.openxmlformats.org/officeDocument/2006/relationships/slide" Target="slide45.xml"/><Relationship Id="rId7" Type="http://schemas.openxmlformats.org/officeDocument/2006/relationships/slide" Target="slide41.xml"/><Relationship Id="rId8" Type="http://schemas.openxmlformats.org/officeDocument/2006/relationships/slide" Target="slide46.xml"/><Relationship Id="rId9" Type="http://schemas.openxmlformats.org/officeDocument/2006/relationships/slide" Target="slide42.xml"/><Relationship Id="rId10" Type="http://schemas.openxmlformats.org/officeDocument/2006/relationships/slide" Target="slide47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" Target="slide37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" Target="slide37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" Target="slide3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" Target="slide37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" Target="slide37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" Target="slide37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" Target="slide37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" Target="slide37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" Target="slide37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" Target="slide37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" Target="slide37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slide3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slide3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3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slide3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slide3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0"/>
            <a:ext cx="7162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6600"/>
                </a:solidFill>
                <a:latin typeface="Tahoma"/>
              </a:rPr>
              <a:t>Supermarket Family Feu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9480" y="3429000"/>
            <a:ext cx="2489400" cy="3002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952880" y="2971800"/>
            <a:ext cx="35895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Supermarket Family Feud Round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952880" y="3048120"/>
            <a:ext cx="35895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me something you find in the </a:t>
            </a: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frozen foods sec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f the supermark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1981080"/>
          <a:ext cx="7772400" cy="43880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304920" y="0"/>
            <a:ext cx="53316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5720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019920" y="638964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Move to next 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19920" y="638964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Move to next 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406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406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1406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1406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406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406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1406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406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1406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406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4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178080" y="2743200"/>
            <a:ext cx="2841840" cy="3708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66680" y="0"/>
            <a:ext cx="708660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rozen Pizza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2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66920" y="3733920"/>
            <a:ext cx="4608720" cy="2117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866960" y="30492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V Dinner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0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33560" y="3809880"/>
            <a:ext cx="3475080" cy="1886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304920"/>
            <a:ext cx="800100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rozen Vegetabl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847880" y="2971800"/>
            <a:ext cx="5448240" cy="3359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71680" y="0"/>
            <a:ext cx="800100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rozen Chicke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6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438280" y="3048120"/>
            <a:ext cx="4267440" cy="3195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866960" y="30492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ish Stick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48080" y="3429000"/>
            <a:ext cx="4047840" cy="2544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Waffl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2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333600" y="2971800"/>
            <a:ext cx="2476800" cy="3200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Supermarket Family Feud Round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952880" y="3048120"/>
            <a:ext cx="35895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Supermarket Family Feud Round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952880" y="3048120"/>
            <a:ext cx="35895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something you find in the 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health and beauty aids se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your supermar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5800" y="1981080"/>
          <a:ext cx="7772400" cy="45640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304920" y="0"/>
            <a:ext cx="53316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45720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019920" y="638964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Move to next 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1406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1406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1406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1406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406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406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1406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406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406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1406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866960" y="30492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hampo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8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494080" y="3352680"/>
            <a:ext cx="4155840" cy="2818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oothpast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6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00400" y="3429000"/>
            <a:ext cx="4543200" cy="24620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Medicin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4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65400" y="2971800"/>
            <a:ext cx="3011400" cy="30114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onditione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2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622680" y="3124080"/>
            <a:ext cx="1897200" cy="30639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Deodoran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0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368440" y="3276720"/>
            <a:ext cx="4337280" cy="2825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oap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68480" y="2819520"/>
            <a:ext cx="5207040" cy="3574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Lotio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6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673360" y="3200400"/>
            <a:ext cx="3797280" cy="3219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866960" y="30492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Mouthwash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565440" y="3048120"/>
            <a:ext cx="2011320" cy="3349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Vitamin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2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832120" y="2895480"/>
            <a:ext cx="3479760" cy="34797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something you can buy in the </a:t>
            </a: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del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t the supermar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304920" y="0"/>
            <a:ext cx="53316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19920" y="638964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Move to next 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40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40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40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40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140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40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140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40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40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40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Supermarket Family Feud Round 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952880" y="3048120"/>
            <a:ext cx="3589560" cy="3463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019920" y="6389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me something you find in the 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seafood secti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of the supermark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304920" y="0"/>
            <a:ext cx="53316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45720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171840" y="609588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Move to next 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406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1406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1406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1406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8" dur="1406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" dur="1406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1406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" dur="1406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" dur="1406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1406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20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333600" y="3200400"/>
            <a:ext cx="2476800" cy="3200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hrimp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5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160800" y="2819520"/>
            <a:ext cx="2820960" cy="34606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866960" y="30492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Lobste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0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311560" y="3200400"/>
            <a:ext cx="4520880" cy="31701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rab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106800" y="3429000"/>
            <a:ext cx="2928960" cy="2367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Supermarket Family Feud Round 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952880" y="3048120"/>
            <a:ext cx="35895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me something you find in the </a:t>
            </a: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meat departme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f the supermark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85800" y="1981080"/>
          <a:ext cx="7772400" cy="45640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1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304920" y="0"/>
            <a:ext cx="53316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1"/>
          <a:stretch/>
        </p:blipFill>
        <p:spPr>
          <a:xfrm>
            <a:off x="45720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726960" y="6400800"/>
            <a:ext cx="24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Back to begi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" dur="1406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1406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3" dur="1406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1406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1" dur="1406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" dur="1406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1406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" dur="1406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1406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1406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5" dur="1406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9" dur="1406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3" dur="1406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7" dur="1406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teak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0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363680" y="3429000"/>
            <a:ext cx="6416640" cy="2278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57200" y="0"/>
            <a:ext cx="822960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Hamburger Me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9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90600" y="3048120"/>
            <a:ext cx="4761000" cy="2970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ak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2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3581640" cy="2771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800600" y="3733920"/>
            <a:ext cx="3200400" cy="2476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Hot Dog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527200" y="2743200"/>
            <a:ext cx="4089600" cy="35146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hicke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7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362320" y="3048120"/>
            <a:ext cx="4424400" cy="3365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urke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6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374920" y="2971800"/>
            <a:ext cx="4394160" cy="34686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Ha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71600" y="2971800"/>
            <a:ext cx="4599000" cy="3168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Pork Chop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890800" y="2743200"/>
            <a:ext cx="3360600" cy="3733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Baco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3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057400" y="3352680"/>
            <a:ext cx="5027760" cy="27021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ausag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2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776680" y="2971800"/>
            <a:ext cx="3471840" cy="33876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" y="0"/>
            <a:ext cx="822960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andwich Me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911320" y="2971800"/>
            <a:ext cx="3319560" cy="31147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00120" y="25905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The End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029200" y="3048120"/>
            <a:ext cx="3589200" cy="3463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80880" y="426960"/>
            <a:ext cx="2489400" cy="30020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80880" y="5867280"/>
            <a:ext cx="33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63244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Back to begi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5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resh Brea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0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751120" y="3048120"/>
            <a:ext cx="3641760" cy="3427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866960" y="45720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Pi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952720" y="3429000"/>
            <a:ext cx="3237120" cy="2755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866960" y="0"/>
            <a:ext cx="5410080" cy="39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ooked Chicke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6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325600" y="3429000"/>
            <a:ext cx="4380120" cy="3056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866960" y="0"/>
            <a:ext cx="5410080" cy="39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ooked Vegetabl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73240" y="3774960"/>
            <a:ext cx="3122640" cy="2851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866960" y="30492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asserol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2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57520" y="3495600"/>
            <a:ext cx="3827520" cy="244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7:37:52Z</dcterms:created>
  <dc:creator>DSES</dc:creator>
  <dc:description/>
  <dc:language>en-US</dc:language>
  <cp:lastModifiedBy> </cp:lastModifiedBy>
  <dcterms:modified xsi:type="dcterms:W3CDTF">2004-07-29T15:45:05Z</dcterms:modified>
  <cp:revision>28</cp:revision>
  <dc:subject/>
  <dc:title>PowerPoint Presentation</dc:title>
</cp:coreProperties>
</file>