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E0D0-96A0-4CDE-8D91-701A8B94F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97F0-F1BF-4994-9CD3-E83297D7E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6E22-3DC5-446E-A998-1E08F8183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7BFF-5A8B-41E0-B092-4F4B4CBFF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03AF-F671-4AAA-A136-C1FA6AC86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31EF-0931-4C32-BD18-737256306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4116-3160-4BDF-AAF6-05E05A840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4EB5-D984-477D-AA36-505F648C6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19A1-858A-4DE1-8E5A-5788A2495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0EF1-5552-4337-98B1-3BA64A81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9CAF-662A-4F4B-8E57-B811E049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6BBE-92D4-482F-9F12-5B1993F8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E94E0-F432-4757-8FB5-22A2A7BA91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" Target="slide14.xml"/><Relationship Id="rId4" Type="http://schemas.openxmlformats.org/officeDocument/2006/relationships/slide" Target="slide13.xml"/><Relationship Id="rId5" Type="http://schemas.openxmlformats.org/officeDocument/2006/relationships/slide" Target="slide12.xml"/><Relationship Id="rId6" Type="http://schemas.openxmlformats.org/officeDocument/2006/relationships/slide" Target="slide11.xml"/><Relationship Id="rId7" Type="http://schemas.openxmlformats.org/officeDocument/2006/relationships/slide" Target="slide10.xml"/><Relationship Id="rId8" Type="http://schemas.openxmlformats.org/officeDocument/2006/relationships/slide" Target="slide9.xml"/><Relationship Id="rId9" Type="http://schemas.openxmlformats.org/officeDocument/2006/relationships/slide" Target="slide8.xml"/><Relationship Id="rId10" Type="http://schemas.openxmlformats.org/officeDocument/2006/relationships/slide" Target="slide7.xml"/><Relationship Id="rId11" Type="http://schemas.openxmlformats.org/officeDocument/2006/relationships/slide" Target="slide6.xml"/><Relationship Id="rId12" Type="http://schemas.openxmlformats.org/officeDocument/2006/relationships/slide" Target="slide5.xml"/><Relationship Id="rId13" Type="http://schemas.openxmlformats.org/officeDocument/2006/relationships/slide" Target="slide4.xml"/><Relationship Id="rId14" Type="http://schemas.openxmlformats.org/officeDocument/2006/relationships/image" Target="../media/image4.wmf"/><Relationship Id="rId15" Type="http://schemas.openxmlformats.org/officeDocument/2006/relationships/slide" Target=""/><Relationship Id="rId16" Type="http://schemas.openxmlformats.org/officeDocument/2006/relationships/image" Target="../media/image5.wmf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6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6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6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238880" y="4648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533520"/>
            <a:ext cx="91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Who wants to be a Millionaire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80880" y="3048120"/>
            <a:ext cx="8763120" cy="3809880"/>
            <a:chOff x="380880" y="3048120"/>
            <a:chExt cx="8763120" cy="380988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5618160" y="3389400"/>
              <a:ext cx="3525840" cy="346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380880" y="3048120"/>
              <a:ext cx="2286000" cy="346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">
            <a:hlinkClick r:id="rId4" action="ppaction://hlinksldjump"/>
          </p:cNvPr>
          <p:cNvSpPr/>
          <p:nvPr/>
        </p:nvSpPr>
        <p:spPr>
          <a:xfrm>
            <a:off x="3352680" y="5410080"/>
            <a:ext cx="2210040" cy="825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begin g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14400" y="685800"/>
            <a:ext cx="76201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 Narrow"/>
              </a:rPr>
              <a:t>This is the person you talk to at the bank when you need a loan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33520" y="60199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352680" y="601992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Click here if answer is corr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09480" y="685800"/>
            <a:ext cx="8001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 Narrow"/>
              </a:rPr>
              <a:t>What is it called when you add money to your checking account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33520" y="60199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352680" y="601992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Click here if answer is corr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91440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 Narrow"/>
              </a:rPr>
              <a:t>A locked, fireproof box where you can keep your valuable things is a ____________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33520" y="60199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352680" y="601992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Click here if answer is corr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33520" y="304920"/>
            <a:ext cx="8076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 Narrow"/>
              </a:rPr>
              <a:t>A bank account that pays you interest for keeping your money in the bank is called a ___________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33520" y="60199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352680" y="601992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Click here if answer is corr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38080" y="762120"/>
            <a:ext cx="7315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 Narrow"/>
              </a:rPr>
              <a:t>What is the person you talk to when you make deposits and withdrawals called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520" y="60199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352680" y="601992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Click here if answer is corr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533520"/>
            <a:ext cx="91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Who wants to be a Millionaire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80880" y="3048120"/>
            <a:ext cx="8763120" cy="3809880"/>
            <a:chOff x="380880" y="3048120"/>
            <a:chExt cx="8763120" cy="3809880"/>
          </a:xfrm>
        </p:grpSpPr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5618160" y="3389400"/>
              <a:ext cx="3525840" cy="346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2"/>
            <a:stretch/>
          </p:blipFill>
          <p:spPr>
            <a:xfrm>
              <a:off x="380880" y="3048120"/>
              <a:ext cx="2286000" cy="346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81080" y="20574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80880" y="304920"/>
            <a:ext cx="8382240" cy="6172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3880" y="380880"/>
            <a:ext cx="381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wants to be a millionair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324480" y="457200"/>
            <a:ext cx="2286000" cy="603648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$1 Mill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ccccff"/>
                </a:solidFill>
                <a:uFillTx/>
                <a:latin typeface="Arial"/>
                <a:hlinkClick r:id="rId4" action="ppaction://hlinksldjump"/>
              </a:rPr>
              <a:t>$500,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ccccff"/>
                </a:solidFill>
                <a:uFillTx/>
                <a:latin typeface="Arial"/>
                <a:hlinkClick r:id="rId5" action="ppaction://hlinksldjump"/>
              </a:rPr>
              <a:t>$250,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ccccff"/>
                </a:solidFill>
                <a:uFillTx/>
                <a:latin typeface="Arial"/>
                <a:hlinkClick r:id="rId6" action="ppaction://hlinksldjump"/>
              </a:rPr>
              <a:t>$125,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ccccff"/>
                </a:solidFill>
                <a:uFillTx/>
                <a:latin typeface="Arial"/>
                <a:hlinkClick r:id="rId7" action="ppaction://hlinksldjump"/>
              </a:rPr>
              <a:t>$64,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ccccff"/>
                </a:solidFill>
                <a:uFillTx/>
                <a:latin typeface="Arial"/>
                <a:hlinkClick r:id="rId8" action="ppaction://hlinksldjump"/>
              </a:rPr>
              <a:t>$32,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$16,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$8,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$4,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ccccff"/>
                </a:solidFill>
                <a:uFillTx/>
                <a:latin typeface="Arial"/>
                <a:hlinkClick r:id="rId12" action="ppaction://hlinksldjump"/>
              </a:rPr>
              <a:t>$2,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ccccff"/>
                </a:solidFill>
                <a:uFillTx/>
                <a:latin typeface="Arial"/>
                <a:hlinkClick r:id="rId13" action="ppaction://hlinksldjump"/>
              </a:rPr>
              <a:t>$1,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3880" y="1752480"/>
            <a:ext cx="3505320" cy="914400"/>
          </a:xfrm>
          <a:prstGeom prst="hexagon">
            <a:avLst>
              <a:gd name="adj" fmla="val 95837"/>
              <a:gd name="vf" fmla="val 115470"/>
            </a:avLst>
          </a:prstGeom>
          <a:solidFill>
            <a:srgbClr val="99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3809880"/>
            <a:ext cx="5715000" cy="2667240"/>
          </a:xfrm>
          <a:prstGeom prst="rect">
            <a:avLst/>
          </a:prstGeom>
          <a:solidFill>
            <a:srgbClr val="000000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4267080"/>
            <a:ext cx="1371600" cy="9144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43200" y="4267080"/>
            <a:ext cx="1371600" cy="9144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4267080"/>
            <a:ext cx="1371600" cy="9144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19320" y="4495680"/>
            <a:ext cx="91440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4"/>
          <a:stretch/>
        </p:blipFill>
        <p:spPr>
          <a:xfrm>
            <a:off x="3201840" y="4343400"/>
            <a:ext cx="549360" cy="685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438280" y="1905120"/>
            <a:ext cx="1752840" cy="52056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n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15" action="ppaction://hlinksldjump"/>
          </p:cNvPr>
          <p:cNvSpPr/>
          <p:nvPr/>
        </p:nvSpPr>
        <p:spPr>
          <a:xfrm>
            <a:off x="0" y="6400800"/>
            <a:ext cx="4572000" cy="459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here to end g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6"/>
          <a:stretch/>
        </p:blipFill>
        <p:spPr>
          <a:xfrm>
            <a:off x="4952880" y="4343400"/>
            <a:ext cx="6843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7452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80880" y="304920"/>
            <a:ext cx="8382240" cy="6172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380880"/>
            <a:ext cx="381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wants to be a millionair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324480" y="457200"/>
            <a:ext cx="2286000" cy="603648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ccff"/>
                </a:solidFill>
                <a:latin typeface="Arial"/>
              </a:rPr>
              <a:t>$1 Mill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ccff"/>
                </a:solidFill>
                <a:latin typeface="Arial"/>
              </a:rPr>
              <a:t>$500,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ccff"/>
                </a:solidFill>
                <a:latin typeface="Arial"/>
              </a:rPr>
              <a:t>$250,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ccff"/>
                </a:solidFill>
                <a:latin typeface="Arial"/>
              </a:rPr>
              <a:t>$125,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ccff"/>
                </a:solidFill>
                <a:latin typeface="Arial"/>
              </a:rPr>
              <a:t>$64,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ccff"/>
                </a:solidFill>
                <a:latin typeface="Arial"/>
              </a:rPr>
              <a:t>$32,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ccff"/>
                </a:solidFill>
                <a:latin typeface="Arial"/>
              </a:rPr>
              <a:t>$16,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ccff"/>
                </a:solidFill>
                <a:latin typeface="Arial"/>
              </a:rPr>
              <a:t>$8,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ccff"/>
                </a:solidFill>
                <a:latin typeface="Arial"/>
              </a:rPr>
              <a:t>$4,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ccff"/>
                </a:solidFill>
                <a:latin typeface="Arial"/>
              </a:rPr>
              <a:t>$2,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ccff"/>
                </a:solidFill>
                <a:latin typeface="Arial"/>
              </a:rPr>
              <a:t>$1,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752480"/>
            <a:ext cx="3581280" cy="914400"/>
          </a:xfrm>
          <a:prstGeom prst="hexagon">
            <a:avLst>
              <a:gd name="adj" fmla="val 97913"/>
              <a:gd name="vf" fmla="val 115470"/>
            </a:avLst>
          </a:prstGeom>
          <a:solidFill>
            <a:srgbClr val="99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3809880"/>
            <a:ext cx="5715000" cy="2667240"/>
          </a:xfrm>
          <a:prstGeom prst="rect">
            <a:avLst/>
          </a:prstGeom>
          <a:solidFill>
            <a:srgbClr val="000000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4191120"/>
            <a:ext cx="5181480" cy="1312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’m sorry, that is not the correct answ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438280" y="1905120"/>
            <a:ext cx="1752840" cy="52056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n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1" action="ppaction://hlinksldjump"/>
          </p:cNvPr>
          <p:cNvSpPr/>
          <p:nvPr/>
        </p:nvSpPr>
        <p:spPr>
          <a:xfrm>
            <a:off x="0" y="6400800"/>
            <a:ext cx="4572000" cy="459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here to end g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38080" y="762120"/>
            <a:ext cx="73915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 Narrow"/>
              </a:rPr>
              <a:t>Name a place where people can save or borrow money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0199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352680" y="601992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Click here if answer is corr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99072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 Narrow"/>
              </a:rPr>
              <a:t>Name a bank account that allows you to write checks for the things you buy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33520" y="60199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352680" y="601992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Click here if answer is corr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838080" y="838080"/>
            <a:ext cx="7620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 Narrow"/>
              </a:rPr>
              <a:t>What is a computer in a public place that allows you to deposit and withdraw mone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0199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352680" y="601992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Click here if answer is corr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04920" y="380880"/>
            <a:ext cx="8610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 Narrow"/>
              </a:rPr>
              <a:t>What is borrowing and lending money with the understanding that it will be paid back with interest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0199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352680" y="601992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Click here if answer is corr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90720" y="1447920"/>
            <a:ext cx="71625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 Narrow"/>
              </a:rPr>
              <a:t>A charge for a loan is called _____________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33520" y="60199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352680" y="601992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Click here if answer is corr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91440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 Narrow"/>
              </a:rPr>
              <a:t>Taking money out of your checking or savings account is called a ___________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3520" y="60199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352680" y="601992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Click here if answer is corr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18:48:26Z</dcterms:created>
  <dc:creator>DSES</dc:creator>
  <dc:description/>
  <dc:language>en-US</dc:language>
  <cp:lastModifiedBy> </cp:lastModifiedBy>
  <dcterms:modified xsi:type="dcterms:W3CDTF">2004-07-29T15:42:26Z</dcterms:modified>
  <cp:revision>31</cp:revision>
  <dc:subject/>
  <dc:title>PowerPoint Presentation</dc:title>
</cp:coreProperties>
</file>