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2.wmf" ContentType="image/x-wmf"/>
  <Override PartName="/ppt/media/image7.wmf" ContentType="image/x-wmf"/>
  <Override PartName="/ppt/media/image4.gif" ContentType="image/gif"/>
  <Override PartName="/ppt/media/image1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7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8EC-8E1B-41A8-B719-15503AD1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8F9-D4E7-43DE-8985-8956DCD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492-7D39-42A2-8695-578B3686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AF7-3046-4895-844F-6401136A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8A8-922E-4358-B895-D780EAA9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C4B-00DF-4345-8555-C8F4257A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41A-8BD9-420E-BE5E-CBFDF69B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311-A026-4BF1-A740-866DD41A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260-FA46-48F9-B6E9-291963C4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E12-0BFA-45FD-B8D9-AC08BC8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95C-4DC9-40AD-A2AF-9C43FF20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425-4BB4-44F7-B0D5-A5B158D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E89B-2201-4C81-B9EE-11063D40D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9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6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6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6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6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2.xml"/><Relationship Id="rId3" Type="http://schemas.openxmlformats.org/officeDocument/2006/relationships/slide" Target="slide29.xml"/><Relationship Id="rId4" Type="http://schemas.openxmlformats.org/officeDocument/2006/relationships/slide" Target="slide33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6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6.png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7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6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Tahoma"/>
              </a:rPr>
              <a:t>Articles of Clothing Family Feu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90720" y="4572000"/>
            <a:ext cx="7130880" cy="1913040"/>
            <a:chOff x="990720" y="4572000"/>
            <a:chExt cx="7130880" cy="19130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934320" y="4572000"/>
              <a:ext cx="1187280" cy="18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990720" y="4648320"/>
              <a:ext cx="1239840" cy="18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660840" y="4648320"/>
              <a:ext cx="1820880" cy="15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0"/>
            <a:ext cx="83818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ong-sleeved shir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5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63960" y="3276720"/>
            <a:ext cx="3014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a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2880" y="2819520"/>
            <a:ext cx="1576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Articles of Clothing Family Feud Round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something you wear in the spring or the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4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hor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048120" y="3484440"/>
            <a:ext cx="29494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wimsui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05120" y="2743200"/>
            <a:ext cx="17319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0"/>
            <a:ext cx="563904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and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08240" y="2914560"/>
            <a:ext cx="4573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5360" y="380880"/>
            <a:ext cx="81532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lip flop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809800" y="3352680"/>
            <a:ext cx="35226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04920"/>
            <a:ext cx="8839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hort-sleeved shir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755800" y="2971800"/>
            <a:ext cx="35686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-shir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5440" y="2892600"/>
            <a:ext cx="38116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Articles of Clothing Family Feud Round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204156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-6094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672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Articles of Clothing Family Feud Round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something you wear to churc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19920" y="63896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40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dr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895480" y="2766960"/>
            <a:ext cx="326412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ui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406680" y="2819520"/>
            <a:ext cx="23288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66960" y="45720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ho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54560" y="3860640"/>
            <a:ext cx="22348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h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66880" y="3427560"/>
            <a:ext cx="374508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Times New Roman"/>
              </a:rPr>
              <a:t>Articles of Clothing Family Feud Round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204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 articles of clothing that cover your fe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981080"/>
          <a:ext cx="7772400" cy="4388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26960" y="64008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ack to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14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ho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387520" y="2971800"/>
            <a:ext cx="42418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0"/>
            <a:ext cx="70866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ennis sho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3006720"/>
            <a:ext cx="2820960" cy="148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751040" y="4149720"/>
            <a:ext cx="28209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something you wear in the fall or the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772400" cy="4388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04920" y="0"/>
            <a:ext cx="53316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57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19920" y="6400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Move to next 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40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oo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0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352680" y="3429000"/>
            <a:ext cx="2365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71680" y="304920"/>
            <a:ext cx="8001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8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147840" y="3522600"/>
            <a:ext cx="284832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71680" y="0"/>
            <a:ext cx="800100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and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6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84560" y="2895480"/>
            <a:ext cx="4573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66960" y="30492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lip flop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886120" y="3130560"/>
            <a:ext cx="33717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00120" y="28191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The En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586728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6324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Back to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7920" y="0"/>
            <a:ext cx="624816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5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2528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wea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89200" y="2895480"/>
            <a:ext cx="19656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boo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5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838600" y="3124080"/>
            <a:ext cx="348588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glov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438280" y="3251160"/>
            <a:ext cx="42166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itte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5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2575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66960" y="0"/>
            <a:ext cx="54100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carf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53280" y="6019920"/>
            <a:ext cx="468360" cy="43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895480" y="2971800"/>
            <a:ext cx="32212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7:37:52Z</dcterms:created>
  <dc:creator>DSES</dc:creator>
  <dc:description/>
  <dc:language>en-US</dc:language>
  <cp:lastModifiedBy> </cp:lastModifiedBy>
  <dcterms:modified xsi:type="dcterms:W3CDTF">2004-07-29T15:58:01Z</dcterms:modified>
  <cp:revision>35</cp:revision>
  <dc:subject/>
  <dc:title>PowerPoint Presentation</dc:title>
</cp:coreProperties>
</file>