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945-D3B1-4423-BC9B-27C99E00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C9F-CEED-4DF2-85B0-FBEC771A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68A-E271-4DA5-909A-2C313CCB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A25-510F-420F-80A4-20D8EE6F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E38-EEBC-4797-A446-32B3108F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F1E-433D-4AF1-8CD7-CDE74E10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229-3F71-435D-B56E-1B201156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31F-CA7B-4D3D-8B8D-9571CCD4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145-26F0-4C35-89F5-1F027A59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EB6-54A0-46FF-BCB0-620965F7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FAF-A5FC-476E-A623-9F07E004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DFA-D3FD-4894-B89F-4F0E2425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0158-DDC3-49AB-8758-E433A84A4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sc.discovery.com/convergence/coasters/interactive/interactive.html" TargetMode="Externa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musement Par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j0234898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841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E01743_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657600" cy="3566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6280" y="4114800"/>
            <a:ext cx="819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people like to play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am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try to w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iz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iantRapide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639040" cy="3549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396252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ater rid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re a good way to cool off on a hot summer da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5238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Make a roller coas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666880" y="2982960"/>
            <a:ext cx="3810240" cy="309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H03395I" descr=""/>
          <p:cNvPicPr/>
          <p:nvPr/>
        </p:nvPicPr>
        <p:blipFill>
          <a:blip r:embed="rId1"/>
          <a:stretch/>
        </p:blipFill>
        <p:spPr>
          <a:xfrm>
            <a:off x="2743200" y="966960"/>
            <a:ext cx="3657600" cy="2462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3733920"/>
            <a:ext cx="8839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cke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small piece of paper that shows that you have paid to get in to the amusement pa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685800"/>
            <a:ext cx="82296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438280"/>
            <a:ext cx="1828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76212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ay for your ticket at the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cket booth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690640" cy="396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238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ay pass allows you to visit the park for 1 day only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33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s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another name for a ticket.You can buy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y pas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ason pas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838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a season pass, you can visit the park as many times as you like in that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3413160" cy="487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5360" y="5410080"/>
            <a:ext cx="814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parks have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erris whee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j0150157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486400" cy="4111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48240" y="4952880"/>
            <a:ext cx="751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ll have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ller coast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N00203_" descr=""/>
          <p:cNvPicPr/>
          <p:nvPr/>
        </p:nvPicPr>
        <p:blipFill>
          <a:blip r:embed="rId1"/>
          <a:stretch/>
        </p:blipFill>
        <p:spPr>
          <a:xfrm>
            <a:off x="2152800" y="457200"/>
            <a:ext cx="4838400" cy="4381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040" y="53341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erry-go-r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E06227_" descr=""/>
          <p:cNvPicPr/>
          <p:nvPr/>
        </p:nvPicPr>
        <p:blipFill>
          <a:blip r:embed="rId1"/>
          <a:stretch/>
        </p:blipFill>
        <p:spPr>
          <a:xfrm>
            <a:off x="2095560" y="457200"/>
            <a:ext cx="4952880" cy="4300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98480" y="5410080"/>
            <a:ext cx="775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se are called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mper ca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19040" y="533520"/>
            <a:ext cx="8305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erry-go-round and bumper cars are calle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ddie rid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ecause they are for childr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erry%20go%20round%20children" descr=""/>
          <p:cNvPicPr/>
          <p:nvPr/>
        </p:nvPicPr>
        <p:blipFill>
          <a:blip r:embed="rId1"/>
          <a:stretch/>
        </p:blipFill>
        <p:spPr>
          <a:xfrm>
            <a:off x="2954160" y="2590920"/>
            <a:ext cx="3233880" cy="374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4:10:02Z</dcterms:created>
  <dc:creator>DSES</dc:creator>
  <dc:description/>
  <dc:language>en-US</dc:language>
  <cp:lastModifiedBy>cccti</cp:lastModifiedBy>
  <dcterms:modified xsi:type="dcterms:W3CDTF">2003-07-31T18:45:21Z</dcterms:modified>
  <cp:revision>25</cp:revision>
  <dc:subject/>
  <dc:title>PowerPoint Presentation</dc:title>
</cp:coreProperties>
</file>