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D2C5-4A6A-46E7-B76C-48215936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8863-55F5-4068-B9EF-CABB7368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B1BC-D1EE-4910-8783-05715EDA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5EE0-E642-47B4-BC94-87E55E0B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6C38-4833-426A-BDE9-2950E56C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86B6-53F4-4845-87B8-E08B7C3B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B47-F5E3-4080-9237-249D5BD8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FC8-0061-44A1-9894-ECA8AC0B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61D-C563-4733-95F3-19A6B4BA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4EB-C689-43C8-93F8-B0D7D714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8B6E-C758-4A70-A221-55783B2E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119-BDD2-4D19-8201-5C23E999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F368-81E1-474F-AE0F-8A7E3D063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0168426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19128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3049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sgiving Vocabul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O01140_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639040" cy="4116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52480" y="50292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eas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N00787_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643360" cy="4146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00200" y="48769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urke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j0251613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5562360" cy="434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52480" y="502920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pi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j0153141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601992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76520" y="49528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j0183708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5333760" cy="473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05120" y="548640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amil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O02775_" descr=""/>
          <p:cNvPicPr/>
          <p:nvPr/>
        </p:nvPicPr>
        <p:blipFill>
          <a:blip r:embed="rId1"/>
          <a:stretch/>
        </p:blipFill>
        <p:spPr>
          <a:xfrm>
            <a:off x="1295280" y="530280"/>
            <a:ext cx="647712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0089016" descr=""/>
          <p:cNvPicPr/>
          <p:nvPr/>
        </p:nvPicPr>
        <p:blipFill>
          <a:blip r:embed="rId1"/>
          <a:stretch/>
        </p:blipFill>
        <p:spPr>
          <a:xfrm>
            <a:off x="3911760" y="2536920"/>
            <a:ext cx="131904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j0089016" descr=""/>
          <p:cNvPicPr/>
          <p:nvPr/>
        </p:nvPicPr>
        <p:blipFill>
          <a:blip r:embed="rId2"/>
          <a:stretch/>
        </p:blipFill>
        <p:spPr>
          <a:xfrm>
            <a:off x="2486160" y="304920"/>
            <a:ext cx="3457440" cy="44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43000" y="4952880"/>
            <a:ext cx="647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ilgrim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o02825_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5029200" cy="4074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0200" y="51814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ai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0128542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671720" cy="4129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81080" y="495288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dia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j0232550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4800600" cy="4281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28800" y="52578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or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na02462_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038480" cy="510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33720" y="571500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al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j0198493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6019560" cy="4408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3880" y="52578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arves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o02853_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6019920" cy="4648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3880" y="54100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pumpki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j0158225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5562720" cy="449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00200" y="54864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ook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7T15:15:51Z</dcterms:created>
  <dc:creator>DSES</dc:creator>
  <dc:description/>
  <dc:language>en-US</dc:language>
  <cp:lastModifiedBy>Melinda M. Hefner</cp:lastModifiedBy>
  <dcterms:modified xsi:type="dcterms:W3CDTF">2002-07-25T14:59:59Z</dcterms:modified>
  <cp:revision>3</cp:revision>
  <dc:subject/>
  <dc:title>PowerPoint Presentation</dc:title>
</cp:coreProperties>
</file>