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5.gif" ContentType="image/gi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A8C-340C-4D99-AFFC-E16D1512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C63-826E-41DE-9339-E4BAFB33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166-ACD6-4744-AA14-B893E49A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6F5-B729-4B0F-8FBB-46EDA93E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D14-B9B1-4CC2-935C-56530C7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973-5AE5-471D-9784-1470FD04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1CF-BFAE-45E8-8F86-998E5B8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076-C160-4B5B-925A-0DB0064B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B35-F8EB-4EA2-B3C1-EAB857B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7DD-77D1-4262-B289-2ECE956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513-FA6E-45C1-BB96-1D9AEFB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0DD-A4BF-42CB-80EE-029E8B1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626-B421-4082-9D2C-A1B5AF82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02893_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485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 Thanksgi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j0199685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3276360" cy="3186000"/>
          </a:xfrm>
          <a:prstGeom prst="rect">
            <a:avLst/>
          </a:prstGeom>
          <a:ln w="0">
            <a:noFill/>
          </a:ln>
        </p:spPr>
      </p:pic>
      <p:pic>
        <p:nvPicPr>
          <p:cNvPr id="63" name="j0185812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46483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the first harvest, they made a big din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2854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4671720" cy="412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invited the Indians to eat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13484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81480" cy="367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800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was the first Thanksgiv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0183708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962160" cy="3516480"/>
          </a:xfrm>
          <a:prstGeom prst="rect">
            <a:avLst/>
          </a:prstGeom>
          <a:ln w="0">
            <a:noFill/>
          </a:ln>
        </p:spPr>
      </p:pic>
      <p:pic>
        <p:nvPicPr>
          <p:cNvPr id="70" name="SO02804_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4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44197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celebrate Thanksgiving every November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o02823_" descr=""/>
          <p:cNvPicPr/>
          <p:nvPr/>
        </p:nvPicPr>
        <p:blipFill>
          <a:blip r:embed="rId1"/>
          <a:stretch/>
        </p:blipFill>
        <p:spPr>
          <a:xfrm>
            <a:off x="3252960" y="304920"/>
            <a:ext cx="3189240" cy="51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5181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ilgrims were unhapp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231548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715000" cy="446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257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wanted religious freedom, but their king said 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O02735_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191120" cy="41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in 1620 they decided to go to Amer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P00433_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162760"/>
          </a:xfrm>
          <a:prstGeom prst="rect">
            <a:avLst/>
          </a:prstGeom>
          <a:ln w="0">
            <a:noFill/>
          </a:ln>
        </p:spPr>
      </p:pic>
      <p:pic>
        <p:nvPicPr>
          <p:cNvPr id="51" name="TN01339_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1549440" cy="177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160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traveled to America on a large sh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j0194646" descr=""/>
          <p:cNvPicPr/>
          <p:nvPr/>
        </p:nvPicPr>
        <p:blipFill>
          <a:blip r:embed="rId1"/>
          <a:stretch/>
        </p:blipFill>
        <p:spPr>
          <a:xfrm>
            <a:off x="1523880" y="558720"/>
            <a:ext cx="6096240" cy="465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5334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as called the Mayflo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0189602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509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flower landed at Plymouth, Massachusetts, in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fe in Plymouth was difficult for the Pilgrims.  Many died from hunger and the cold wea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j021657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j0128548" descr=""/>
          <p:cNvPicPr/>
          <p:nvPr/>
        </p:nvPicPr>
        <p:blipFill>
          <a:blip r:embed="rId1"/>
          <a:stretch/>
        </p:blipFill>
        <p:spPr>
          <a:xfrm>
            <a:off x="2057400" y="0"/>
            <a:ext cx="4672080" cy="503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5105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thers met Indians who helped them plant cor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8:02:14Z</dcterms:created>
  <dc:creator>DSES</dc:creator>
  <dc:description/>
  <dc:language>en-US</dc:language>
  <cp:lastModifiedBy>CCC&amp;TI</cp:lastModifiedBy>
  <dcterms:modified xsi:type="dcterms:W3CDTF">2002-09-05T15:45:25Z</dcterms:modified>
  <cp:revision>3</cp:revision>
  <dc:subject/>
  <dc:title>PowerPoint Presentation</dc:title>
</cp:coreProperties>
</file>