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gif" ContentType="image/gif"/>
  <Override PartName="/ppt/media/image3.wmf" ContentType="image/x-wmf"/>
  <Override PartName="/ppt/media/image6.gif" ContentType="image/gif"/>
  <Override PartName="/ppt/media/image7.wmf" ContentType="image/x-wmf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D6D0-1918-476E-8310-071C752D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4BF1-D6A8-4237-A828-F8A7BEDC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27C9-BE6B-41F5-A975-8782A165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7FC0-F66D-427B-AD28-E775036D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D39-B925-435A-BF92-30E468B5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AD4B-2784-4BE1-9089-EAA2811A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3140-62E0-4C37-BBA1-7362AF53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356E-71AA-4BDF-A54E-27349085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E8ED-0414-4830-8D1E-54B8E715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9499-60A9-44B3-9C6C-06B1767A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52D-6704-4C05-A34A-41BA1FA0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2432-1DA5-492F-9746-411A8FE7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D7EB-F234-4F71-81ED-A0E0218DB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audio" Target="file:///tmp/home/.config/libreoffice/4/user/gallery/camera.wav" TargetMode="External"/><Relationship Id="rId4" Type="http://schemas.microsoft.com/office/2007/relationships/media" Target="file:///tmp/home/.config/libreoffice/4/user/gallery/camera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295280"/>
            <a:ext cx="6400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e 5   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Sens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j0178827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4724280" cy="3125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52480" y="4038480"/>
            <a:ext cx="6019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have 2 eyes.  You use your eyes to see thing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j0236278" descr=""/>
          <p:cNvPicPr/>
          <p:nvPr/>
        </p:nvPicPr>
        <p:blipFill>
          <a:blip r:embed="rId1"/>
          <a:stretch/>
        </p:blipFill>
        <p:spPr>
          <a:xfrm>
            <a:off x="2286000" y="585720"/>
            <a:ext cx="3733920" cy="3346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00200" y="3962520"/>
            <a:ext cx="4952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en you smell a flower, you use your nos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HM00264_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3760920" cy="2895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76520" y="3733920"/>
            <a:ext cx="5486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ears help you hear sounds, like a car hor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j0137013" descr=""/>
          <p:cNvPicPr/>
          <p:nvPr/>
        </p:nvPicPr>
        <p:blipFill>
          <a:blip r:embed="rId2"/>
          <a:stretch/>
        </p:blipFill>
        <p:spPr>
          <a:xfrm>
            <a:off x="4343400" y="5334120"/>
            <a:ext cx="1981080" cy="1065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6553080" y="55627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400800" y="6172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lick to hear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j0288931" descr=""/>
          <p:cNvPicPr/>
          <p:nvPr/>
        </p:nvPicPr>
        <p:blipFill>
          <a:blip r:embed="rId1"/>
          <a:stretch/>
        </p:blipFill>
        <p:spPr>
          <a:xfrm>
            <a:off x="2647800" y="533520"/>
            <a:ext cx="2795760" cy="3733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4343400"/>
            <a:ext cx="5791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ide your mouth is your tongue. It helps you taste thing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j0126970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2462040" cy="1900080"/>
          </a:xfrm>
          <a:prstGeom prst="rect">
            <a:avLst/>
          </a:prstGeom>
          <a:ln w="0">
            <a:noFill/>
          </a:ln>
        </p:spPr>
      </p:pic>
      <p:pic>
        <p:nvPicPr>
          <p:cNvPr id="54" name="PE07665_" descr=""/>
          <p:cNvPicPr/>
          <p:nvPr/>
        </p:nvPicPr>
        <p:blipFill>
          <a:blip r:embed="rId2"/>
          <a:stretch/>
        </p:blipFill>
        <p:spPr>
          <a:xfrm>
            <a:off x="2743200" y="4419720"/>
            <a:ext cx="2209680" cy="2133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3880" y="30492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r skin lets you feel thing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274320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5050"/>
                </a:solidFill>
                <a:latin typeface="Times New Roman"/>
              </a:rPr>
              <a:t>Ho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502920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6699ff"/>
                </a:solidFill>
                <a:latin typeface="Times New Roman"/>
              </a:rPr>
              <a:t>Col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j0286767" descr=""/>
          <p:cNvPicPr/>
          <p:nvPr/>
        </p:nvPicPr>
        <p:blipFill>
          <a:blip r:embed="rId1"/>
          <a:stretch/>
        </p:blipFill>
        <p:spPr>
          <a:xfrm>
            <a:off x="2590920" y="609480"/>
            <a:ext cx="3352680" cy="3202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43000" y="396252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use your hands to touch thing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SES</cp:lastModifiedBy>
  <dcterms:modified xsi:type="dcterms:W3CDTF">2002-05-30T19:18:22Z</dcterms:modified>
  <cp:revision>1</cp:revision>
  <dc:subject/>
  <dc:title>PowerPoint Presentation</dc:title>
</cp:coreProperties>
</file>