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1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26F-6E39-4FC3-876B-C7184D27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9AD-0A98-45AD-AE6C-890BFF69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CA2-F793-4089-A337-B24BB7D0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F37-5580-4074-82DD-B9517F4F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BDA-4E95-4451-9B94-B633AC9A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A1E-D0E6-4D05-83EB-454C5EB9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51C-2E15-4847-8864-99D51CE5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4E8-096B-4142-9B4F-261B7952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BA4-6531-4247-BEC6-4C08E7BD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66E-0652-4CB7-A35D-DF10A96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B0D-0593-46DC-BA9E-346E6CA5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DB6-2EF5-4BA2-9C33-6DBC253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5817-B9B0-430A-801F-3648BDC6E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838080"/>
            <a:ext cx="5790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40 Hour Wee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labam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1271520"/>
            <a:ext cx="5029200" cy="5052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380880"/>
            <a:ext cx="8305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one who fights the fir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63720" y="1600200"/>
            <a:ext cx="3130560" cy="396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380880"/>
            <a:ext cx="8077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one who brings the ma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304920"/>
            <a:ext cx="76197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everyone who works behind the scene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533520"/>
            <a:ext cx="876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an see them every morn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47920" y="1790640"/>
            <a:ext cx="4276800" cy="2800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52480" y="5181480"/>
            <a:ext cx="5791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facto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38280" y="609480"/>
            <a:ext cx="396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fiel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6576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68580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city stree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1839960"/>
            <a:ext cx="53341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533520"/>
            <a:ext cx="7543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quiet country tow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1547640"/>
            <a:ext cx="5943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533520"/>
            <a:ext cx="5715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king toget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657600" cy="2602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1371600"/>
            <a:ext cx="7315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spokes inside a  whee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4952880"/>
            <a:ext cx="8915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keep this country turning arou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228600"/>
            <a:ext cx="5943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lo Kans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143000"/>
            <a:ext cx="647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at Field Farm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08200" y="2057400"/>
            <a:ext cx="2005200" cy="2590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4724280"/>
            <a:ext cx="8381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me thank you for your time.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259240"/>
            <a:ext cx="761976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work a 40 hour week for a living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st to send it on down the l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152280"/>
            <a:ext cx="6172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lo West Virgi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762120"/>
            <a:ext cx="5790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al Min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2330640" cy="254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26708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me thank you for your time.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181480"/>
            <a:ext cx="838188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work a 40 hour week for a living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st to send it on down the l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60480" y="1803240"/>
            <a:ext cx="4624560" cy="3627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228600"/>
            <a:ext cx="655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people in this cou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143000"/>
            <a:ext cx="586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work hard 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486400"/>
            <a:ext cx="739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for fame or fortune do they str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80880"/>
            <a:ext cx="5867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for the one who drives the big rig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24080" y="1900080"/>
            <a:ext cx="2724120" cy="3089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43000" y="5105520"/>
            <a:ext cx="6781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 and down the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304920"/>
            <a:ext cx="80773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one out in the warehou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28840" y="2133720"/>
            <a:ext cx="276552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47920" y="5181480"/>
            <a:ext cx="6781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inging in the l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33720" y="68580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waitr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1906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28800" y="53352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echani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59160" y="1676520"/>
            <a:ext cx="3952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609480"/>
            <a:ext cx="8077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oliceman on patro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782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533520"/>
            <a:ext cx="8534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everyone who works      behind the scen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409840"/>
            <a:ext cx="5410440" cy="3921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00400" y="2133720"/>
            <a:ext cx="5638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 spirit you can’t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place with no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chin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52480" y="380880"/>
            <a:ext cx="5486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lo Americ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59000" y="1828800"/>
            <a:ext cx="4633920" cy="3200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5410080"/>
            <a:ext cx="8763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Thank You for Your Ti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28920" y="609480"/>
            <a:ext cx="38955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1158840"/>
            <a:ext cx="62485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762120"/>
            <a:ext cx="7467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e fruits of their lab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514600"/>
            <a:ext cx="7848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worth more than their p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962520"/>
            <a:ext cx="83818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’s time a few of them were recognize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382680"/>
            <a:ext cx="87631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352680" y="5181480"/>
            <a:ext cx="5334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die Isenhour, 200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84812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533520"/>
            <a:ext cx="7772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lo Detroit Auto Wor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334120"/>
            <a:ext cx="8153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thank you for your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59000" y="1981080"/>
            <a:ext cx="2784600" cy="2854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457200"/>
            <a:ext cx="8686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ork a 40 hour we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219320"/>
            <a:ext cx="5867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liv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952880"/>
            <a:ext cx="8305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o send it on down the l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624120" cy="273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09680" y="380880"/>
            <a:ext cx="4572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lo Pittsbur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1295280"/>
            <a:ext cx="525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el Mill Wor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181480"/>
            <a:ext cx="8458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thank you for your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457200"/>
            <a:ext cx="6705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ork a 40 hour we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1295280"/>
            <a:ext cx="3200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liv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92360" y="2209680"/>
            <a:ext cx="3274920" cy="3311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5486400"/>
            <a:ext cx="8001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o send it on down the l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29120" y="1671480"/>
            <a:ext cx="2814480" cy="3710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304920"/>
            <a:ext cx="85345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for the one who swings the hamm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562720"/>
            <a:ext cx="7467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ving home the nai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533520"/>
            <a:ext cx="8153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one behind the count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52640" y="2138400"/>
            <a:ext cx="3419640" cy="2562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19320" y="5105520"/>
            <a:ext cx="6705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nging up the s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7T03:46:11Z</dcterms:created>
  <dc:creator>Clay Smith</dc:creator>
  <dc:description/>
  <dc:language>en-US</dc:language>
  <cp:lastModifiedBy>CCC&amp;TI</cp:lastModifiedBy>
  <dcterms:modified xsi:type="dcterms:W3CDTF">2002-08-22T14:43:27Z</dcterms:modified>
  <cp:revision>7</cp:revision>
  <dc:subject/>
  <dc:title>No Slide Title</dc:title>
</cp:coreProperties>
</file>