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715-558D-414E-8A81-415375DC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D19-75FD-41D6-96F8-7A4B6275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8DA-18B6-4506-8882-E724B055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203-3D83-4F85-9431-EC9E3B1F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E0D-4B90-4D54-A243-54F93B91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9B8-7B50-4D90-8C16-68F2CA5D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9B0-EA5D-4A62-8807-88A2C99E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4FFA-98A7-4930-81D2-236B9545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842-E1AD-4E69-AC62-77EFEC1F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992D-7BA9-4140-812B-944992DC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30F-D216-43E5-9DAA-6F2704B4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3A3-CB04-45FA-9013-A76AC897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C10F-ADB9-41E7-B68D-6809EBAC2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609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to Address an Envelop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3808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04914_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57992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533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360" y="498600"/>
            <a:ext cx="29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080" y="1031760"/>
            <a:ext cx="28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1360" y="1488960"/>
            <a:ext cx="29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98108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 Box  Number o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se Number and Street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7680" y="3317760"/>
            <a:ext cx="31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ty,  State, Zip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2286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NA02275_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5181480" cy="326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105520" y="3886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327672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Your address is the Return Add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3880" y="533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838080"/>
            <a:ext cx="792504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Impact"/>
              </a:rPr>
              <a:t>Next is your destination address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Impact"/>
              </a:rPr>
              <a:t>It goes in the center of the envelop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6880" y="3200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first and last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3048120"/>
            <a:ext cx="3429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304812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2743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r. John D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3657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123 Cherry L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3886200"/>
            <a:ext cx="367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3962520"/>
            <a:ext cx="37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4267080"/>
            <a:ext cx="39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51040" y="430848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27360" y="415620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se number  and  Street name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 Box and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4800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Hickory, NC 286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5105520"/>
            <a:ext cx="380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53341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, State, and Zip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05120" y="1828800"/>
            <a:ext cx="519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ahoma"/>
              </a:rPr>
              <a:t>Don’t forget your stamp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04920"/>
            <a:ext cx="297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rs. Jane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 Box 7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noir, NC 28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39625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3352680"/>
            <a:ext cx="4343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r. John D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23 Cherry L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ickory, NC 286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S00737_" descr=""/>
          <p:cNvPicPr/>
          <p:nvPr/>
        </p:nvPicPr>
        <p:blipFill>
          <a:blip r:embed="rId1"/>
          <a:stretch/>
        </p:blipFill>
        <p:spPr>
          <a:xfrm>
            <a:off x="6757920" y="304920"/>
            <a:ext cx="203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j0254499" descr=""/>
          <p:cNvPicPr/>
          <p:nvPr/>
        </p:nvPicPr>
        <p:blipFill>
          <a:blip r:embed="rId1"/>
          <a:stretch/>
        </p:blipFill>
        <p:spPr>
          <a:xfrm>
            <a:off x="3429000" y="3049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32767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Comic Sans MS"/>
              </a:rPr>
              <a:t>          </a:t>
            </a: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Mail your letter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2T16:14:15Z</dcterms:created>
  <dc:creator>DSES</dc:creator>
  <dc:description/>
  <dc:language>en-US</dc:language>
  <cp:lastModifiedBy>CCC&amp;TI</cp:lastModifiedBy>
  <dcterms:modified xsi:type="dcterms:W3CDTF">2002-08-20T19:41:01Z</dcterms:modified>
  <cp:revision>4</cp:revision>
  <dc:subject/>
  <dc:title>PowerPoint Presentation</dc:title>
</cp:coreProperties>
</file>